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7720" y="44319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15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44319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81520" y="44319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39800" y="23623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41880" y="23623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7720" y="44319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39800" y="44319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41880" y="44319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1520" y="23623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838080" y="92700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1520" y="23623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4319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15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81520" y="44319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15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4319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4319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15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4319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81520" y="44319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39800" y="23623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41880" y="23623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4319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39800" y="44319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41880" y="44319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1520" y="23623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92700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1520" y="23623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4319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15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81520" y="44319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1520" y="23623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7720" y="4431960"/>
            <a:ext cx="76964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950760" indent="-188640">
              <a:spcBef>
                <a:spcPts val="499"/>
              </a:spcBef>
              <a:buClr>
                <a:srgbClr val="efd9b1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338120" indent="-196560"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716120" indent="-187200">
              <a:spcBef>
                <a:spcPts val="499"/>
              </a:spcBef>
              <a:buClr>
                <a:srgbClr val="efd9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716120" indent="-1872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716120" indent="-1872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" name="Picture 1027" descr="barrasup"/>
          <p:cNvPicPr/>
          <p:nvPr/>
        </p:nvPicPr>
        <p:blipFill>
          <a:blip r:embed="rId2"/>
          <a:srcRect l="0" t="0" r="29168" b="0"/>
          <a:stretch/>
        </p:blipFill>
        <p:spPr>
          <a:xfrm>
            <a:off x="0" y="958680"/>
            <a:ext cx="9144000" cy="479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28" descr="cuadro"/>
          <p:cNvPicPr/>
          <p:nvPr/>
        </p:nvPicPr>
        <p:blipFill>
          <a:blip r:embed="rId3"/>
          <a:stretch/>
        </p:blipFill>
        <p:spPr>
          <a:xfrm>
            <a:off x="114480" y="135252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29" descr="cuadro"/>
          <p:cNvPicPr/>
          <p:nvPr/>
        </p:nvPicPr>
        <p:blipFill>
          <a:blip r:embed="rId4"/>
          <a:stretch/>
        </p:blipFill>
        <p:spPr>
          <a:xfrm>
            <a:off x="266760" y="150480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30" descr="cuadro"/>
          <p:cNvPicPr/>
          <p:nvPr/>
        </p:nvPicPr>
        <p:blipFill>
          <a:blip r:embed="rId5"/>
          <a:stretch/>
        </p:blipFill>
        <p:spPr>
          <a:xfrm>
            <a:off x="266760" y="179064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31" descr="cuadro"/>
          <p:cNvPicPr/>
          <p:nvPr/>
        </p:nvPicPr>
        <p:blipFill>
          <a:blip r:embed="rId6"/>
          <a:stretch/>
        </p:blipFill>
        <p:spPr>
          <a:xfrm>
            <a:off x="114480" y="163836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32"/>
          <p:cNvSpPr/>
          <p:nvPr/>
        </p:nvSpPr>
        <p:spPr>
          <a:xfrm>
            <a:off x="419040" y="1943280"/>
            <a:ext cx="152640" cy="152280"/>
          </a:xfrm>
          <a:prstGeom prst="rect">
            <a:avLst/>
          </a:prstGeom>
          <a:solidFill>
            <a:srgbClr val="d8e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Rectangle 1033"/>
          <p:cNvSpPr/>
          <p:nvPr/>
        </p:nvSpPr>
        <p:spPr>
          <a:xfrm>
            <a:off x="571680" y="1714680"/>
            <a:ext cx="15228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Line 1034"/>
          <p:cNvSpPr/>
          <p:nvPr/>
        </p:nvSpPr>
        <p:spPr>
          <a:xfrm>
            <a:off x="0" y="2095560"/>
            <a:ext cx="91440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Line 1035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037"/>
          <p:cNvSpPr/>
          <p:nvPr/>
        </p:nvSpPr>
        <p:spPr>
          <a:xfrm>
            <a:off x="8101080" y="6324480"/>
            <a:ext cx="93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Taller IC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" name="Group 1038"/>
          <p:cNvGrpSpPr/>
          <p:nvPr/>
        </p:nvGrpSpPr>
        <p:grpSpPr>
          <a:xfrm>
            <a:off x="7596360" y="6381720"/>
            <a:ext cx="443160" cy="430200"/>
            <a:chOff x="7596360" y="6381720"/>
            <a:chExt cx="443160" cy="430200"/>
          </a:xfrm>
        </p:grpSpPr>
        <p:pic>
          <p:nvPicPr>
            <p:cNvPr id="13" name="Picture 1039" descr="cuadro"/>
            <p:cNvPicPr/>
            <p:nvPr/>
          </p:nvPicPr>
          <p:blipFill>
            <a:blip r:embed="rId7"/>
            <a:stretch/>
          </p:blipFill>
          <p:spPr>
            <a:xfrm>
              <a:off x="7596360" y="6381720"/>
              <a:ext cx="132840" cy="1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Picture 1040" descr="cuadro"/>
            <p:cNvPicPr/>
            <p:nvPr/>
          </p:nvPicPr>
          <p:blipFill>
            <a:blip r:embed="rId8"/>
            <a:stretch/>
          </p:blipFill>
          <p:spPr>
            <a:xfrm>
              <a:off x="7748280" y="6519960"/>
              <a:ext cx="133200" cy="1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Rectangle 1041"/>
            <p:cNvSpPr/>
            <p:nvPr/>
          </p:nvSpPr>
          <p:spPr>
            <a:xfrm flipH="1" rot="16200000">
              <a:off x="7596000" y="6643800"/>
              <a:ext cx="152280" cy="151920"/>
            </a:xfrm>
            <a:prstGeom prst="rect">
              <a:avLst/>
            </a:prstGeom>
            <a:solidFill>
              <a:srgbClr val="d8e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H="1" rot="16200000">
              <a:off x="7886880" y="6659640"/>
              <a:ext cx="15228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" name="Rectangle 1046"/>
          <p:cNvSpPr/>
          <p:nvPr/>
        </p:nvSpPr>
        <p:spPr>
          <a:xfrm>
            <a:off x="1224000" y="2954160"/>
            <a:ext cx="66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5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Line 6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6" name="Group 26"/>
          <p:cNvGrpSpPr/>
          <p:nvPr/>
        </p:nvGrpSpPr>
        <p:grpSpPr>
          <a:xfrm>
            <a:off x="1619280" y="2081160"/>
            <a:ext cx="914400" cy="1060200"/>
            <a:chOff x="1619280" y="2081160"/>
            <a:chExt cx="914400" cy="1060200"/>
          </a:xfrm>
        </p:grpSpPr>
        <p:pic>
          <p:nvPicPr>
            <p:cNvPr id="57" name="Picture 9" descr="upvconletragrispeq"/>
            <p:cNvPicPr/>
            <p:nvPr/>
          </p:nvPicPr>
          <p:blipFill>
            <a:blip r:embed="rId2"/>
            <a:srcRect l="34542" t="0" r="0" b="0"/>
            <a:stretch/>
          </p:blipFill>
          <p:spPr>
            <a:xfrm>
              <a:off x="1619280" y="2698560"/>
              <a:ext cx="91440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0" descr="upvconletragrispeq"/>
            <p:cNvPicPr/>
            <p:nvPr/>
          </p:nvPicPr>
          <p:blipFill>
            <a:blip r:embed="rId3"/>
            <a:srcRect l="0" t="0" r="66427" b="0"/>
            <a:stretch/>
          </p:blipFill>
          <p:spPr>
            <a:xfrm>
              <a:off x="1771560" y="2081160"/>
              <a:ext cx="609480" cy="576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9" name="Object 32"/>
          <p:cNvGraphicFramePr/>
          <p:nvPr/>
        </p:nvGraphicFramePr>
        <p:xfrm>
          <a:off x="4021200" y="2252520"/>
          <a:ext cx="766800" cy="71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21200" y="2252520"/>
                    <a:ext cx="76680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35" descr="Escuela Técnica Superior de Ingenieros de Telecomunicación"/>
          <p:cNvPicPr/>
          <p:nvPr/>
        </p:nvPicPr>
        <p:blipFill>
          <a:blip r:embed="rId6"/>
          <a:stretch/>
        </p:blipFill>
        <p:spPr>
          <a:xfrm>
            <a:off x="5796000" y="2316240"/>
            <a:ext cx="184788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950760" indent="-188640">
              <a:spcBef>
                <a:spcPts val="499"/>
              </a:spcBef>
              <a:buClr>
                <a:srgbClr val="efd9b1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338120" indent="-196560"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716120" indent="-187200">
              <a:spcBef>
                <a:spcPts val="499"/>
              </a:spcBef>
              <a:buClr>
                <a:srgbClr val="efd9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716120" indent="-1872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716120" indent="-1872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ersonales.upv.es/chernan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ublic.bscw.de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3499920"/>
            <a:ext cx="8785440" cy="9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Taller</a:t>
            </a:r>
            <a:br>
              <a:rPr sz="2000"/>
            </a:b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“Aprendizaje 2.0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80880" y="4724280"/>
            <a:ext cx="83822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f. Carlos Hernández Franco </a:t>
            </a:r>
            <a:br>
              <a:rPr sz="2000"/>
            </a:b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chernan@dcom.upv.es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http://personales.upv.es/cherna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@chernandez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79280" y="404640"/>
            <a:ext cx="87854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oyecto General de la Universidad Politécnica de Valencia para la Promoción y Dinamización de la Convergencia Europea:</a:t>
            </a:r>
            <a:br>
              <a:rPr sz="2000"/>
            </a:b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lan de Formación del Profesorad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blicación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V Jornadas de Informática y Sociedad - JIS 2004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nseñanza Colaborativa en la Sociedad de la Información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Universidad de Deusto, Bilbao, Marzo 20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SEFI 2004 –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Annual Congress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Mastering DSP Concepts Using Basic Support for Cooperative Work at the Polytechnic School of Gandí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oftware Tools for Automatic and Unsupervised Examination of the Students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UPV, Septiembre 20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Instituto de Ciencias de la Educación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rabajo Colaborativo Utilizando las Tecnologías de la Información y las Comunicaciones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E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PSG, UPV, Diciembre 20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0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Centro de Formación Permanente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Introducción al Procesado Digital de Señales. Aplicaciones de Audio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EPSG, UPV, UCLV, Febrero - Abril 20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Instituto de Ciencias de la Educación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rabajo Colaborativo Utilizando las Tecnologías de la Información y las Comunicaciones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EPSA, UPV, Junio 20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Simposio de Ingeniería Eléctrica - SIE 2005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Utilización de las Tecnologías de la Información y las Comunicaciones en la Enseñanza Colaborativa no Presencial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UCLV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Cuba, Junio 20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Innovations 2005 – Special Edition, iNEER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eaching Engineering Concepts Using Collaborative Tool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blicación de Resultado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continuación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4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Centro de Formación  Permanente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La Radio Local: Infraestructura Técnica y Gestión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EPSG, ETSIT, UPV, UCLV, Diciembre 2006 - Enero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ecnologías de Internet y Trabajo Colaborativo en la Sociedad de la Información y el Conocimiento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EPSG, ETSIT, UPV, UCLV, Febrero - Marzo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4b4b"/>
                </a:solidFill>
                <a:latin typeface="Arial"/>
              </a:rPr>
              <a:t>International Technology, Education and Development Conference - INTED 2007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pplying Information Technologies in a Municipal Radio Station: new Profiles and Services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Valencia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Marzo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blicación de Resultado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continuación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96440" cy="38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XIII Convención de Ingeniería Eléctrica - CIE 2007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adio Local Universitaria y Enseñanza Colaborativa no Presencial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UCLV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Cuba, Junio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Encuentro FIPPU sobre Experiencias en Innovación Educativa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ecnologías de Internet y Trabajo Colaborativo en la Sociedad de la Información y el Conocimiento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ICE, UPV, 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Julio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4d4d4d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WSEAS/IASME International Conference on </a:t>
            </a:r>
            <a:br>
              <a:rPr sz="2000"/>
            </a:b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ducational Technologies - EDUTE'07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raining Higher Education Lecturers in Internet Technologies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Francia, Octubre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blicación de Resultado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continuación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0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V Congreso Iberoamericano de Docencia Universitaria  - CIDU'08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Metodología para el Desarrollo de Trabajo Investigativo Estudiantil Interdisciplinario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adio Local Universitaria y Aprendizaje 2.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heremin: Propuesta Formativa Interdisciplinar para el Aprendizaje Colaborativo de Conceptos de las Telecomunicaciones a través de un Instrumento Musical Electrónico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UPV, Octubre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blicación de Resultado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continuación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5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Jornadas de Innovación - Metodologías Activas para la Formación en Competencias &amp; Estrategias de Evaluación Alternativas:</a:t>
            </a:r>
            <a:r>
              <a:rPr b="0" lang="es-E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cosistemas Tecnológicos” del Alumnado y “Evaluación 2.0”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UPV, Julio de 2009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b4b4b"/>
                </a:solidFill>
                <a:latin typeface="Arial"/>
              </a:rPr>
              <a:t>Jornadas de Innovación Educativa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l Profesorado y las Nuevas Tecnologías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CEFIRE Elx, 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Noviembre 2009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l Profesorado y las Nuevas Tecnologías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CEFIRE Orihuela, 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Noviembre 2009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blicación de Resultado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continuación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5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4b4b"/>
                </a:solidFill>
                <a:latin typeface="Arial"/>
              </a:rPr>
              <a:t>International Technology, Education and Development Conference - INTED 2010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33"/>
                </a:solidFill>
                <a:latin typeface="Arial"/>
              </a:rPr>
              <a:t>Digital Signal Processing Applied to Musical Hyper Instruments</a:t>
            </a:r>
            <a:r>
              <a:rPr b="0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33"/>
                </a:solidFill>
                <a:latin typeface="Arial"/>
              </a:rPr>
              <a:t>Students’ Technological Ecosystems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Valencia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Marzo 201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ICEE 2010 Engineering Education and Research for Society, International Conference on Engineering Education: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Collaborative Learning, Research and Science Promotion in a Multidisciplinary Scenario: Information and Communications Technology and Music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Gliwice, Polonia, Julio de 201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blicación de Resultado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continuación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0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b4b4b"/>
                </a:solidFill>
                <a:latin typeface="Arial"/>
              </a:rPr>
              <a:t>XVIII Jornadas Internacionales Universitarias de Tecnología Educativa: “Didáctica de los Contenidos 2.0” - JUTE 2010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mpleo de Vídeos Didácticos y Laboratorios Virtuales en la Docencia Universitaria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Gandía, Valencia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Septiembre 201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b4b4b"/>
                </a:solidFill>
                <a:latin typeface="Arial"/>
              </a:rPr>
              <a:t>I Congreso Comunicación y Educación: “Estrategias de Alfabetización Mediática”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Las Tecnologías Comunicativas y la Interactividad en la Educación Superior. El Caso “PoliConecta” de la UPV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Barcelona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Mayo 20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blicación de Resultado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continuación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9644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b4b4b"/>
                </a:solidFill>
                <a:latin typeface="Arial"/>
              </a:rPr>
              <a:t>I Jornadas para Orientadores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Las TIC como Perspectiva Profesional</a:t>
            </a:r>
            <a:r>
              <a:rPr b="0" lang="es-ES" sz="1800" spc="-1" strike="noStrike">
                <a:solidFill>
                  <a:srgbClr val="4b4b4b"/>
                </a:solidFill>
                <a:latin typeface="Arial"/>
              </a:rPr>
              <a:t>, ETSIT, UPV, Mayo 20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b4b4b"/>
                </a:solidFill>
                <a:latin typeface="Arial"/>
              </a:rPr>
              <a:t>Jornadas de Innovación Educativa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b4b4b"/>
                </a:solidFill>
                <a:latin typeface="Arial"/>
              </a:rPr>
              <a:t>ICE, UPV, Julio 20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blicación de Resultado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continuación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5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4b4b"/>
                </a:solidFill>
                <a:latin typeface="Arial"/>
              </a:rPr>
              <a:t>International Technology, Education and Development Conference - INTED 2013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33"/>
                </a:solidFill>
                <a:latin typeface="Arial"/>
              </a:rPr>
              <a:t>Educational Possibilities of Study of Hearing, Sound and Radio Art</a:t>
            </a:r>
            <a:r>
              <a:rPr b="0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33"/>
                </a:solidFill>
                <a:latin typeface="Arial"/>
              </a:rPr>
              <a:t>Radio 3.0: What’s the best way to Tune in to the Web and Social Networks?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Valencia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Marzo 201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4b4b"/>
                </a:solidFill>
                <a:latin typeface="Arial"/>
              </a:rPr>
              <a:t>VI Congreso Universidad y Cooperación al Desarrollo - CUD 2013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33"/>
                </a:solidFill>
                <a:latin typeface="Arial"/>
              </a:rPr>
              <a:t>El Compromiso Social de la UPV en Proyectos de Formación: “Radio Escalante 329”</a:t>
            </a: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, Valencia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Abril 201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blicación de Resultado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continuación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uión de la Presen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27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Arial"/>
              </a:rPr>
              <a:t>Presentación del Profeso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Arial"/>
              </a:rPr>
              <a:t>Formación pedagógi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Arial"/>
              </a:rPr>
              <a:t>Descripción y Objetivos del Tall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Arial"/>
              </a:rPr>
              <a:t>Metodologí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Arial"/>
              </a:rPr>
              <a:t>Publicación de Resultado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Arial"/>
              </a:rPr>
              <a:t>Plan de Trabajo del Tall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n de Trabajo del Ta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644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Consultar página personal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409040" y="3651120"/>
            <a:ext cx="68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personales.upv.es/chern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s Palabras Antes de Comenzar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63600" y="2357280"/>
            <a:ext cx="8351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"... dulce oficio oportuno, que enseñar y aprender es todo uno."</a:t>
            </a:r>
            <a:br>
              <a:rPr sz="1600"/>
            </a:b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Fray Luís de León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( 1527 - 1591 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939960" y="3429000"/>
            <a:ext cx="7775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3680" indent="-1936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"... sobre la maldad innata de los objetos inanimad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3680" indent="-1936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a propósito de las tecnologías..."</a:t>
            </a:r>
            <a:br>
              <a:rPr sz="1600"/>
            </a:b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ónim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95280" y="4786200"/>
            <a:ext cx="83199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3680" indent="-1936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“–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¿Me consideras  un hombre culto y leído?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3680" indent="-1936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–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Sin duda – replicó </a:t>
            </a:r>
            <a:r>
              <a:rPr b="1" i="1" lang="es-ES" sz="1600" spc="-1" strike="noStrike">
                <a:solidFill>
                  <a:srgbClr val="333333"/>
                </a:solidFill>
                <a:latin typeface="Arial"/>
              </a:rPr>
              <a:t>Zi-gong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–. ¿No lo eres?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3680" indent="-1936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–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En absoluto – dijo </a:t>
            </a:r>
            <a:r>
              <a:rPr b="1" i="1" lang="es-ES" sz="1600" spc="-1" strike="noStrike">
                <a:solidFill>
                  <a:srgbClr val="333333"/>
                </a:solidFill>
                <a:latin typeface="Arial"/>
              </a:rPr>
              <a:t>Confucio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–. Tan sólo he agarrado el hilo que enlaza el resto."</a:t>
            </a:r>
            <a:br>
              <a:rPr sz="1600"/>
            </a:b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Relatado por Sima Qian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( 145 - 89 a.C. 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sentación del Profe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6440" cy="25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Carlos Hernández Franco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niversidad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olitécnica de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alenc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scue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écnic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uperior de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ngenieros de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elecomunicació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Departamento de Comunicacion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G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rupo de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ratamiento de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udio y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omunicacion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Arial"/>
              </a:rPr>
              <a:t>E-mail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es-ES" sz="1800" spc="-1" strike="noStrike" u="sng">
                <a:solidFill>
                  <a:srgbClr val="3366cc"/>
                </a:solidFill>
                <a:uFillTx/>
                <a:latin typeface="Arial"/>
              </a:rPr>
              <a:t>chernan@dcom.upv.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Arial"/>
              </a:rPr>
              <a:t>URL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es-ES" sz="1800" spc="-1" strike="noStrike" u="sng">
                <a:solidFill>
                  <a:srgbClr val="3366cc"/>
                </a:solidFill>
                <a:uFillTx/>
                <a:latin typeface="Arial"/>
              </a:rPr>
              <a:t>http://personales.upv.es/cherna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6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urso de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ctitud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edagógica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Tecnología, Curso 1998-1999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rograma de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cogida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niversitaria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Curso 2002-20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Formación Pedagógica Inicial para el Profesorado Universitario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FIPPU VII</a:t>
            </a: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, Curso 2004-20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Título de Especialista Universitario en Pedagogía Universitaria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Universidad Politécnica de Valencia, Curso 2006-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ación Pedagó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2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Talleres formativos del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ICE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 para el profesorado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Curso 2001-2002 hasta la actualidad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royectos de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nnovación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D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ocente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Curso 2001-2002 hasta la actualidad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Miembro de la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Education Society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 del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IEEE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Curso 2001-2002 hasta la actualidad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Miembro del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Capítulo Español</a:t>
            </a:r>
            <a:r>
              <a:rPr b="1" lang="es-ES" sz="2000" spc="-1" strike="noStrike">
                <a:solidFill>
                  <a:srgbClr val="4d4d4d"/>
                </a:solidFill>
                <a:latin typeface="Arial"/>
              </a:rPr>
              <a:t> de la Education Society del IEEE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71680" indent="-18756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Arial"/>
              </a:rPr>
              <a:t>Desde Marzo de 2004 hasta la actualidad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ación Pedagógica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continuación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scripción y Objetivos del Ta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El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Arial"/>
              </a:rPr>
              <a:t>proceso de Bolonia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 plantea a la Universidad Europea u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Arial"/>
              </a:rPr>
              <a:t>nuevo paradigma educativo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 para un  nuevo modelo de sociedad donde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Arial"/>
              </a:rPr>
              <a:t>el Profesor actuará como facilitador del aprendizaje de los Alumnos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, siendo estos más activos y autónomo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Para ello el Profesorado deberá asumir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Arial"/>
              </a:rPr>
              <a:t>nuevas competencias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 en su actuación docente tales como el aprendizaje basado en proyectos,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Arial"/>
              </a:rPr>
              <a:t>nuevos procedimientos de evaluación y acción tutorial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, etc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scripción y Objetivos del Taller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continuación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35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Pero sobretodo, el Espacio Europeo de Educación Superior pone énfasis en la necesaria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Arial"/>
              </a:rPr>
              <a:t>participación colaborativa de Profesores y Alumnos en la consecución de este nuevo paradigma educativo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Y este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Arial"/>
              </a:rPr>
              <a:t>trabajo colaborativo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 se verá posibilitado, facilitado y potenciado si hacemos uso de las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Arial"/>
              </a:rPr>
              <a:t>Tecnologías de Internet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 que a la vez servirán como estímulo en el incremento del aprendizaje 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Arial"/>
              </a:rPr>
              <a:t>social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”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 del alumnado en un “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Arial"/>
              </a:rPr>
              <a:t>aula más allá del espacio y del tiempo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” y que se integra plenamente en la actual Sociedad del Conocimient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2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aspectos teóricos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 expuestos en cada tema serán 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comprobados de forma práctica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 por los asistentes al curso, potenciando en todo momento la participación activa de los mismos en las distintas sesion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Se abordarán 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situaciones reales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 donde las Tecnologías de la Información posibilitan el trabajo colaborativo entre Profesores y Alumno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Se dispondrá de “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e-materiales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” específicos para el curso así como el acceso a través de Internet a 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recursos on-lin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927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3680" indent="-193680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Espacio de Trabajo Colaborativo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 del Taller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551680" y="36511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public.bscw.d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20:20:09Z</dcterms:created>
  <dc:creator>Carlos Hernandez Franco</dc:creator>
  <dc:description>ICE, EPSG, UPV</dc:description>
  <dc:language>en-US</dc:language>
  <cp:lastModifiedBy>Carlos Hernández Franco</cp:lastModifiedBy>
  <cp:lastPrinted>2001-05-02T07:46:52Z</cp:lastPrinted>
  <dcterms:modified xsi:type="dcterms:W3CDTF">2013-02-15T19:22:05Z</dcterms:modified>
  <cp:revision>669</cp:revision>
  <dc:subject>Taller de Formación del Profesorado</dc:subject>
  <dc:title>Trabajo Colaborativo y Tecnologías en el EEES</dc:title>
</cp:coreProperties>
</file>