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C47-FAB9-4DBE-9F52-FAC4BE20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EF3-BB69-441F-8DB4-C4EFA35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590-36D5-4868-BD08-C12F59C4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937-C5FB-4193-9A87-C7BBDA7D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519-DC91-43A6-A4BE-CD091F84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F62-AA33-40F8-813B-7733245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361-18E1-4A48-B3E8-29915C1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BE1-1657-4135-8B52-FC4CCF9E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773-BCBF-4E88-B824-588D770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850-556B-40E1-BF9F-4842DFC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0CE-C539-4E24-A2CD-DC6C0D1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305-6ED5-4C52-9FA4-EF189DE4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7BA-D8B5-4E90-85E9-31006B14DD1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package" Target="../embeddings/oleObject2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376" t="15639" r="77657" b="43679"/>
          <a:stretch/>
        </p:blipFill>
        <p:spPr>
          <a:xfrm>
            <a:off x="15840" y="7920"/>
            <a:ext cx="9117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ENER G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02400" y="4508640"/>
            <a:ext cx="279396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utores 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Jose M. Pinaz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ctor Sot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tonio Garcí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cadio Garc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3381480" y="3556080"/>
            <a:ext cx="260280" cy="593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4002120" y="3637080"/>
            <a:ext cx="624960" cy="493200"/>
            <a:chOff x="4002120" y="3637080"/>
            <a:chExt cx="624960" cy="493200"/>
          </a:xfrm>
        </p:grpSpPr>
        <p:sp>
          <p:nvSpPr>
            <p:cNvPr id="1180" name=""/>
            <p:cNvSpPr/>
            <p:nvPr/>
          </p:nvSpPr>
          <p:spPr>
            <a:xfrm>
              <a:off x="4002120" y="3639240"/>
              <a:ext cx="443160" cy="49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26400" y="3637080"/>
              <a:ext cx="40068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10200" y="3651120"/>
              <a:ext cx="2188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24880" y="3758760"/>
              <a:ext cx="208080" cy="23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3375000" y="3554280"/>
            <a:ext cx="26028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185920" y="3559320"/>
            <a:ext cx="2484360" cy="59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182680" y="4159080"/>
            <a:ext cx="2487600" cy="600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 flipV="1" rot="5400000">
            <a:off x="2976480" y="3871080"/>
            <a:ext cx="1206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771640" y="4123080"/>
            <a:ext cx="129600" cy="83880"/>
            <a:chOff x="2771640" y="4123080"/>
            <a:chExt cx="129600" cy="83880"/>
          </a:xfrm>
        </p:grpSpPr>
        <p:sp>
          <p:nvSpPr>
            <p:cNvPr id="1189" name=""/>
            <p:cNvSpPr/>
            <p:nvPr/>
          </p:nvSpPr>
          <p:spPr>
            <a:xfrm flipV="1">
              <a:off x="2796120" y="4123080"/>
              <a:ext cx="867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 rot="5400000">
              <a:off x="2825640" y="4149000"/>
              <a:ext cx="2124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 flipV="1">
              <a:off x="2771640" y="4203720"/>
              <a:ext cx="19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2881440" y="4123800"/>
              <a:ext cx="198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2904840" y="4123080"/>
            <a:ext cx="127440" cy="83880"/>
            <a:chOff x="2904840" y="4123080"/>
            <a:chExt cx="127440" cy="83880"/>
          </a:xfrm>
        </p:grpSpPr>
        <p:sp>
          <p:nvSpPr>
            <p:cNvPr id="1194" name=""/>
            <p:cNvSpPr/>
            <p:nvPr/>
          </p:nvSpPr>
          <p:spPr>
            <a:xfrm flipV="1">
              <a:off x="2929320" y="4123080"/>
              <a:ext cx="846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 rot="5400000">
              <a:off x="2957760" y="4149360"/>
              <a:ext cx="2124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>
              <a:off x="2904840" y="4203720"/>
              <a:ext cx="190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3012840" y="412380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3036960" y="4123080"/>
            <a:ext cx="128160" cy="83880"/>
            <a:chOff x="3036960" y="4123080"/>
            <a:chExt cx="128160" cy="83880"/>
          </a:xfrm>
        </p:grpSpPr>
        <p:sp>
          <p:nvSpPr>
            <p:cNvPr id="1199" name=""/>
            <p:cNvSpPr/>
            <p:nvPr/>
          </p:nvSpPr>
          <p:spPr>
            <a:xfrm flipV="1">
              <a:off x="3061080" y="4123080"/>
              <a:ext cx="8568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 rot="5400000">
              <a:off x="3089880" y="4149360"/>
              <a:ext cx="212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3036960" y="4203720"/>
              <a:ext cx="19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3145680" y="412380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3166560" y="4123080"/>
            <a:ext cx="132120" cy="83880"/>
            <a:chOff x="3166560" y="4123080"/>
            <a:chExt cx="132120" cy="83880"/>
          </a:xfrm>
        </p:grpSpPr>
        <p:sp>
          <p:nvSpPr>
            <p:cNvPr id="1204" name=""/>
            <p:cNvSpPr/>
            <p:nvPr/>
          </p:nvSpPr>
          <p:spPr>
            <a:xfrm flipV="1">
              <a:off x="3191760" y="4123080"/>
              <a:ext cx="878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 rot="5400000">
              <a:off x="3222000" y="4148640"/>
              <a:ext cx="2124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3166560" y="4203720"/>
              <a:ext cx="19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flipV="1">
              <a:off x="3278520" y="4123800"/>
              <a:ext cx="201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H="1">
            <a:off x="2614680" y="416412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60920" y="3860640"/>
            <a:ext cx="77472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460840" y="673200"/>
            <a:ext cx="0" cy="49276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423040" y="660240"/>
            <a:ext cx="952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486400" y="16002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26035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99000" y="358128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86400" y="45720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435640" y="5600880"/>
            <a:ext cx="9396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48720" y="63504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35760" y="16383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861320" y="264168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873920" y="361944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835760" y="45975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48720" y="561348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8381880" y="622440"/>
            <a:ext cx="0" cy="5943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4965480" y="6578640"/>
            <a:ext cx="3429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952880" y="4419360"/>
            <a:ext cx="0" cy="21841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4673520" y="4457880"/>
            <a:ext cx="2793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602160" y="2329920"/>
            <a:ext cx="0" cy="1235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1371600" y="3860640"/>
            <a:ext cx="647640" cy="129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04840" y="34322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92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320840" y="4432320"/>
            <a:ext cx="71100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567240" y="306540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59000" y="34290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381480" y="3571920"/>
            <a:ext cx="247680" cy="57132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3387600" y="3568680"/>
            <a:ext cx="247680" cy="571680"/>
          </a:xfrm>
          <a:prstGeom prst="rtTriangl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3514680" y="3571920"/>
            <a:ext cx="11448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-2520" y="0"/>
            <a:ext cx="35884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tónomo caudal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3680" y="307980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per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talp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71240" y="350820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12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2124000" y="3521160"/>
            <a:ext cx="120600" cy="613800"/>
            <a:chOff x="2124000" y="3521160"/>
            <a:chExt cx="120600" cy="613800"/>
          </a:xfrm>
        </p:grpSpPr>
        <p:sp>
          <p:nvSpPr>
            <p:cNvPr id="1240" name=""/>
            <p:cNvSpPr/>
            <p:nvPr/>
          </p:nvSpPr>
          <p:spPr>
            <a:xfrm>
              <a:off x="2124000" y="3554280"/>
              <a:ext cx="12060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2139840" y="3579480"/>
              <a:ext cx="83880" cy="129240"/>
              <a:chOff x="2139840" y="3579480"/>
              <a:chExt cx="83880" cy="129240"/>
            </a:xfrm>
          </p:grpSpPr>
          <p:sp>
            <p:nvSpPr>
              <p:cNvPr id="1242" name=""/>
              <p:cNvSpPr/>
              <p:nvPr/>
            </p:nvSpPr>
            <p:spPr>
              <a:xfrm>
                <a:off x="2141280" y="3603960"/>
                <a:ext cx="824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70080" y="3627720"/>
                <a:ext cx="21240" cy="33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2139840" y="3579480"/>
                <a:ext cx="324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2220120" y="3688920"/>
                <a:ext cx="288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2139840" y="3712680"/>
              <a:ext cx="83880" cy="127080"/>
              <a:chOff x="2139840" y="3712680"/>
              <a:chExt cx="83880" cy="127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2141280" y="3736800"/>
                <a:ext cx="82440" cy="8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170080" y="375984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2139840" y="3712680"/>
                <a:ext cx="32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2220120" y="382032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2139840" y="3845880"/>
              <a:ext cx="83880" cy="128160"/>
              <a:chOff x="2139840" y="3845880"/>
              <a:chExt cx="83880" cy="1281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141280" y="3870360"/>
                <a:ext cx="8244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170080" y="389376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2139840" y="3845880"/>
                <a:ext cx="32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220120" y="395460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139840" y="3976200"/>
              <a:ext cx="83880" cy="131760"/>
              <a:chOff x="2139840" y="3976200"/>
              <a:chExt cx="83880" cy="131760"/>
            </a:xfrm>
          </p:grpSpPr>
          <p:sp>
            <p:nvSpPr>
              <p:cNvPr id="1257" name=""/>
              <p:cNvSpPr/>
              <p:nvPr/>
            </p:nvSpPr>
            <p:spPr>
              <a:xfrm>
                <a:off x="2141280" y="4001400"/>
                <a:ext cx="8244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170080" y="4025160"/>
                <a:ext cx="2124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2139840" y="3976200"/>
                <a:ext cx="324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220120" y="4087800"/>
                <a:ext cx="28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 flipV="1">
              <a:off x="2182680" y="3521160"/>
              <a:ext cx="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2120400" y="4162320"/>
            <a:ext cx="120600" cy="614160"/>
            <a:chOff x="2120400" y="4162320"/>
            <a:chExt cx="120600" cy="614160"/>
          </a:xfrm>
        </p:grpSpPr>
        <p:sp>
          <p:nvSpPr>
            <p:cNvPr id="1263" name=""/>
            <p:cNvSpPr/>
            <p:nvPr/>
          </p:nvSpPr>
          <p:spPr>
            <a:xfrm flipH="1" flipV="1">
              <a:off x="2120040" y="4162320"/>
              <a:ext cx="1206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2141280" y="4588200"/>
              <a:ext cx="83880" cy="129240"/>
              <a:chOff x="2141280" y="4588200"/>
              <a:chExt cx="83880" cy="129240"/>
            </a:xfrm>
          </p:grpSpPr>
          <p:sp>
            <p:nvSpPr>
              <p:cNvPr id="1265" name=""/>
              <p:cNvSpPr/>
              <p:nvPr/>
            </p:nvSpPr>
            <p:spPr>
              <a:xfrm flipH="1" flipV="1">
                <a:off x="2141280" y="4606200"/>
                <a:ext cx="824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flipV="1">
                <a:off x="2173680" y="4636080"/>
                <a:ext cx="21240" cy="33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2222280" y="469800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2142360" y="4588200"/>
                <a:ext cx="288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2141280" y="4457160"/>
              <a:ext cx="83880" cy="127440"/>
              <a:chOff x="2141280" y="4457160"/>
              <a:chExt cx="83880" cy="127440"/>
            </a:xfrm>
          </p:grpSpPr>
          <p:sp>
            <p:nvSpPr>
              <p:cNvPr id="1270" name=""/>
              <p:cNvSpPr/>
              <p:nvPr/>
            </p:nvSpPr>
            <p:spPr>
              <a:xfrm flipH="1" flipV="1">
                <a:off x="2141280" y="4475520"/>
                <a:ext cx="82440" cy="8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>
                <a:off x="2173680" y="450468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2222280" y="4565520"/>
                <a:ext cx="28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2142360" y="445716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2141280" y="4322520"/>
              <a:ext cx="83880" cy="128160"/>
              <a:chOff x="2141280" y="4322520"/>
              <a:chExt cx="83880" cy="128160"/>
            </a:xfrm>
          </p:grpSpPr>
          <p:sp>
            <p:nvSpPr>
              <p:cNvPr id="1275" name=""/>
              <p:cNvSpPr/>
              <p:nvPr/>
            </p:nvSpPr>
            <p:spPr>
              <a:xfrm flipH="1" flipV="1">
                <a:off x="2141280" y="4340880"/>
                <a:ext cx="8244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 flipV="1">
                <a:off x="2173680" y="437004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2222280" y="443124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2142360" y="432252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2141280" y="4189320"/>
              <a:ext cx="83880" cy="132120"/>
              <a:chOff x="2141280" y="4189320"/>
              <a:chExt cx="83880" cy="132120"/>
            </a:xfrm>
          </p:grpSpPr>
          <p:sp>
            <p:nvSpPr>
              <p:cNvPr id="1280" name=""/>
              <p:cNvSpPr/>
              <p:nvPr/>
            </p:nvSpPr>
            <p:spPr>
              <a:xfrm flipH="1" flipV="1">
                <a:off x="2141280" y="4208400"/>
                <a:ext cx="8244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 flipV="1">
                <a:off x="2173680" y="4238280"/>
                <a:ext cx="212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2222280" y="4301640"/>
                <a:ext cx="288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2142360" y="4189320"/>
                <a:ext cx="28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2182680" y="42526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435400" y="3564000"/>
            <a:ext cx="247320" cy="119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38280" y="41464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3830760" y="4202280"/>
            <a:ext cx="624960" cy="493200"/>
            <a:chOff x="3830760" y="4202280"/>
            <a:chExt cx="624960" cy="493200"/>
          </a:xfrm>
        </p:grpSpPr>
        <p:sp>
          <p:nvSpPr>
            <p:cNvPr id="1288" name=""/>
            <p:cNvSpPr/>
            <p:nvPr/>
          </p:nvSpPr>
          <p:spPr>
            <a:xfrm rot="10800000">
              <a:off x="4012560" y="4202280"/>
              <a:ext cx="443160" cy="49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0800000">
              <a:off x="3830760" y="4479840"/>
              <a:ext cx="40068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0800000">
              <a:off x="4028760" y="4453560"/>
              <a:ext cx="2188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10800000">
              <a:off x="4124880" y="4340160"/>
              <a:ext cx="208080" cy="23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4692240" y="41241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7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633680" y="1616040"/>
            <a:ext cx="1347480" cy="952560"/>
            <a:chOff x="1633680" y="1616040"/>
            <a:chExt cx="1347480" cy="952560"/>
          </a:xfrm>
        </p:grpSpPr>
        <p:sp>
          <p:nvSpPr>
            <p:cNvPr id="1294" name=""/>
            <p:cNvSpPr/>
            <p:nvPr/>
          </p:nvSpPr>
          <p:spPr>
            <a:xfrm>
              <a:off x="1808280" y="1725480"/>
              <a:ext cx="784080" cy="74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638440" y="201600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638440" y="24382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38440" y="195552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38440" y="177480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38440" y="23176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8440" y="21970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38440" y="189540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38440" y="237780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638440" y="20764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638440" y="183492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638440" y="171432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38440" y="225720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638440" y="213660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63600" y="204948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2071440" y="1747440"/>
              <a:ext cx="257400" cy="306720"/>
              <a:chOff x="2071440" y="1747440"/>
              <a:chExt cx="257400" cy="306720"/>
            </a:xfrm>
          </p:grpSpPr>
          <p:sp>
            <p:nvSpPr>
              <p:cNvPr id="1310" name=""/>
              <p:cNvSpPr/>
              <p:nvPr/>
            </p:nvSpPr>
            <p:spPr>
              <a:xfrm flipV="1">
                <a:off x="2266920" y="1766880"/>
                <a:ext cx="6192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flipV="1">
                <a:off x="2071440" y="1780920"/>
                <a:ext cx="7452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2074680" y="1752480"/>
                <a:ext cx="810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2155680" y="1747440"/>
                <a:ext cx="907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251080" y="1749240"/>
                <a:ext cx="7308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143080" y="2035080"/>
                <a:ext cx="414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228760" y="2028600"/>
                <a:ext cx="367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184480" y="2039760"/>
                <a:ext cx="93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227320" y="2033280"/>
                <a:ext cx="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244600" y="2051640"/>
              <a:ext cx="308520" cy="279000"/>
              <a:chOff x="2244600" y="2051640"/>
              <a:chExt cx="308520" cy="279000"/>
            </a:xfrm>
          </p:grpSpPr>
          <p:sp>
            <p:nvSpPr>
              <p:cNvPr id="1320" name=""/>
              <p:cNvSpPr/>
              <p:nvPr/>
            </p:nvSpPr>
            <p:spPr>
              <a:xfrm>
                <a:off x="2246040" y="2167200"/>
                <a:ext cx="21564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283480" y="2051640"/>
                <a:ext cx="2696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45200" y="2091960"/>
                <a:ext cx="5040" cy="8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513160" y="2177640"/>
                <a:ext cx="3096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466720" y="2266560"/>
                <a:ext cx="4284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272320" y="2052360"/>
                <a:ext cx="1944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2248200" y="2130480"/>
                <a:ext cx="900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2253960" y="2088000"/>
                <a:ext cx="16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flipV="1">
                <a:off x="2244600" y="2123280"/>
                <a:ext cx="147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61560" y="2088360"/>
              <a:ext cx="331200" cy="303840"/>
              <a:chOff x="1861560" y="2088360"/>
              <a:chExt cx="331200" cy="303840"/>
            </a:xfrm>
          </p:grpSpPr>
          <p:sp>
            <p:nvSpPr>
              <p:cNvPr id="1330" name=""/>
              <p:cNvSpPr/>
              <p:nvPr/>
            </p:nvSpPr>
            <p:spPr>
              <a:xfrm flipH="1">
                <a:off x="1861560" y="2088360"/>
                <a:ext cx="2509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2021760" y="2179800"/>
                <a:ext cx="171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 flipV="1">
                <a:off x="1949760" y="2339640"/>
                <a:ext cx="7128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 flipV="1">
                <a:off x="1893240" y="2268360"/>
                <a:ext cx="5760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1861560" y="2195640"/>
                <a:ext cx="3060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flipV="1">
                <a:off x="2166480" y="2151360"/>
                <a:ext cx="21240" cy="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112120" y="2090520"/>
                <a:ext cx="2628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2167920" y="2134440"/>
                <a:ext cx="612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2137680" y="2109600"/>
                <a:ext cx="133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1633680" y="1616040"/>
              <a:ext cx="1347480" cy="95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 flipH="1">
            <a:off x="2989080" y="2336760"/>
            <a:ext cx="595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3440160" y="2424240"/>
            <a:ext cx="0" cy="1103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975040" y="245268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071880" y="169848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6383520" y="471600"/>
            <a:ext cx="1453680" cy="828720"/>
            <a:chOff x="6383520" y="471600"/>
            <a:chExt cx="1453680" cy="828720"/>
          </a:xfrm>
        </p:grpSpPr>
        <p:sp>
          <p:nvSpPr>
            <p:cNvPr id="1345" name=""/>
            <p:cNvSpPr/>
            <p:nvPr/>
          </p:nvSpPr>
          <p:spPr>
            <a:xfrm>
              <a:off x="6386400" y="53064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33120" y="471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3520" y="4939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6383520" y="1460520"/>
            <a:ext cx="1454040" cy="828720"/>
            <a:chOff x="6383520" y="1460520"/>
            <a:chExt cx="1454040" cy="828720"/>
          </a:xfrm>
        </p:grpSpPr>
        <p:sp>
          <p:nvSpPr>
            <p:cNvPr id="1349" name=""/>
            <p:cNvSpPr/>
            <p:nvPr/>
          </p:nvSpPr>
          <p:spPr>
            <a:xfrm>
              <a:off x="6386760" y="1519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33480" y="146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3520" y="1482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6383520" y="2449440"/>
            <a:ext cx="1454040" cy="828720"/>
            <a:chOff x="6383520" y="2449440"/>
            <a:chExt cx="1454040" cy="828720"/>
          </a:xfrm>
        </p:grpSpPr>
        <p:sp>
          <p:nvSpPr>
            <p:cNvPr id="1353" name=""/>
            <p:cNvSpPr/>
            <p:nvPr/>
          </p:nvSpPr>
          <p:spPr>
            <a:xfrm>
              <a:off x="6386760" y="2508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33480" y="2449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3520" y="2471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6383520" y="3440160"/>
            <a:ext cx="1454040" cy="828720"/>
            <a:chOff x="6383520" y="3440160"/>
            <a:chExt cx="1454040" cy="828720"/>
          </a:xfrm>
        </p:grpSpPr>
        <p:sp>
          <p:nvSpPr>
            <p:cNvPr id="1357" name=""/>
            <p:cNvSpPr/>
            <p:nvPr/>
          </p:nvSpPr>
          <p:spPr>
            <a:xfrm>
              <a:off x="6386760" y="3498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233480" y="3440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3520" y="346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6383520" y="4429080"/>
            <a:ext cx="1454040" cy="828720"/>
            <a:chOff x="6383520" y="4429080"/>
            <a:chExt cx="1454040" cy="828720"/>
          </a:xfrm>
        </p:grpSpPr>
        <p:sp>
          <p:nvSpPr>
            <p:cNvPr id="1361" name=""/>
            <p:cNvSpPr/>
            <p:nvPr/>
          </p:nvSpPr>
          <p:spPr>
            <a:xfrm>
              <a:off x="6386760" y="44881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233480" y="4429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3520" y="4451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6383520" y="5419800"/>
            <a:ext cx="1454040" cy="828720"/>
            <a:chOff x="6383520" y="5419800"/>
            <a:chExt cx="1454040" cy="828720"/>
          </a:xfrm>
        </p:grpSpPr>
        <p:sp>
          <p:nvSpPr>
            <p:cNvPr id="1365" name=""/>
            <p:cNvSpPr/>
            <p:nvPr/>
          </p:nvSpPr>
          <p:spPr>
            <a:xfrm>
              <a:off x="6386760" y="54784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33480" y="541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3520" y="544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743880" y="825480"/>
            <a:ext cx="355320" cy="380880"/>
            <a:chOff x="6743880" y="825480"/>
            <a:chExt cx="355320" cy="380880"/>
          </a:xfrm>
        </p:grpSpPr>
        <p:sp>
          <p:nvSpPr>
            <p:cNvPr id="1369" name=""/>
            <p:cNvSpPr/>
            <p:nvPr/>
          </p:nvSpPr>
          <p:spPr>
            <a:xfrm>
              <a:off x="6766920" y="848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743880" y="825480"/>
              <a:ext cx="3553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1" name=""/>
          <p:cNvGraphicFramePr/>
          <p:nvPr/>
        </p:nvGraphicFramePr>
        <p:xfrm>
          <a:off x="0" y="4842000"/>
          <a:ext cx="3305160" cy="201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0"/>
                    <a:ext cx="33051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3" name=""/>
          <p:cNvSpPr/>
          <p:nvPr/>
        </p:nvSpPr>
        <p:spPr>
          <a:xfrm>
            <a:off x="1634400" y="12430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-2880" y="0"/>
            <a:ext cx="34192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tónomo caudal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4002120" y="3637080"/>
            <a:ext cx="624960" cy="493200"/>
            <a:chOff x="4002120" y="3637080"/>
            <a:chExt cx="624960" cy="493200"/>
          </a:xfrm>
        </p:grpSpPr>
        <p:sp>
          <p:nvSpPr>
            <p:cNvPr id="1376" name=""/>
            <p:cNvSpPr/>
            <p:nvPr/>
          </p:nvSpPr>
          <p:spPr>
            <a:xfrm>
              <a:off x="4002120" y="3639240"/>
              <a:ext cx="443160" cy="49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26400" y="3637080"/>
              <a:ext cx="40068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10200" y="3651120"/>
              <a:ext cx="2188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24880" y="3758760"/>
              <a:ext cx="208080" cy="23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478240" y="3559320"/>
            <a:ext cx="2192040" cy="59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494080" y="4159080"/>
            <a:ext cx="2176200" cy="600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422440" y="3573360"/>
            <a:ext cx="1206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438280" y="3598920"/>
            <a:ext cx="83880" cy="129240"/>
            <a:chOff x="2438280" y="3598920"/>
            <a:chExt cx="83880" cy="129240"/>
          </a:xfrm>
        </p:grpSpPr>
        <p:sp>
          <p:nvSpPr>
            <p:cNvPr id="1384" name=""/>
            <p:cNvSpPr/>
            <p:nvPr/>
          </p:nvSpPr>
          <p:spPr>
            <a:xfrm>
              <a:off x="2439720" y="3623400"/>
              <a:ext cx="8244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468520" y="3647160"/>
              <a:ext cx="2124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2438280" y="3598920"/>
              <a:ext cx="32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2518560" y="3708360"/>
              <a:ext cx="28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2438280" y="3731760"/>
            <a:ext cx="83880" cy="127440"/>
            <a:chOff x="2438280" y="3731760"/>
            <a:chExt cx="83880" cy="127440"/>
          </a:xfrm>
        </p:grpSpPr>
        <p:sp>
          <p:nvSpPr>
            <p:cNvPr id="1389" name=""/>
            <p:cNvSpPr/>
            <p:nvPr/>
          </p:nvSpPr>
          <p:spPr>
            <a:xfrm>
              <a:off x="2439720" y="3756240"/>
              <a:ext cx="8244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68520" y="3779280"/>
              <a:ext cx="2124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2438280" y="3731760"/>
              <a:ext cx="32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2518560" y="3839760"/>
              <a:ext cx="28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2438280" y="3865680"/>
            <a:ext cx="83880" cy="128160"/>
            <a:chOff x="2438280" y="3865680"/>
            <a:chExt cx="83880" cy="128160"/>
          </a:xfrm>
        </p:grpSpPr>
        <p:sp>
          <p:nvSpPr>
            <p:cNvPr id="1394" name=""/>
            <p:cNvSpPr/>
            <p:nvPr/>
          </p:nvSpPr>
          <p:spPr>
            <a:xfrm>
              <a:off x="2439720" y="3889800"/>
              <a:ext cx="82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68520" y="3913200"/>
              <a:ext cx="212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2438280" y="3865680"/>
              <a:ext cx="32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2518560" y="3974400"/>
              <a:ext cx="28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2438280" y="3995280"/>
            <a:ext cx="83880" cy="132120"/>
            <a:chOff x="2438280" y="3995280"/>
            <a:chExt cx="83880" cy="132120"/>
          </a:xfrm>
        </p:grpSpPr>
        <p:sp>
          <p:nvSpPr>
            <p:cNvPr id="1399" name=""/>
            <p:cNvSpPr/>
            <p:nvPr/>
          </p:nvSpPr>
          <p:spPr>
            <a:xfrm>
              <a:off x="2439720" y="4020480"/>
              <a:ext cx="8244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468520" y="4044600"/>
              <a:ext cx="2124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438280" y="3995280"/>
              <a:ext cx="32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2518560" y="4107240"/>
              <a:ext cx="288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3" name=""/>
          <p:cNvSpPr/>
          <p:nvPr/>
        </p:nvSpPr>
        <p:spPr>
          <a:xfrm flipV="1">
            <a:off x="2481120" y="353988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 flipV="1">
            <a:off x="2437560" y="4162320"/>
            <a:ext cx="1206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2458800" y="4588560"/>
            <a:ext cx="83880" cy="129600"/>
            <a:chOff x="2458800" y="4588560"/>
            <a:chExt cx="83880" cy="129600"/>
          </a:xfrm>
        </p:grpSpPr>
        <p:sp>
          <p:nvSpPr>
            <p:cNvPr id="1406" name=""/>
            <p:cNvSpPr/>
            <p:nvPr/>
          </p:nvSpPr>
          <p:spPr>
            <a:xfrm flipH="1" flipV="1">
              <a:off x="2458800" y="4606920"/>
              <a:ext cx="8244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2491200" y="4636080"/>
              <a:ext cx="2124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2539800" y="4698720"/>
              <a:ext cx="28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2459880" y="4588560"/>
              <a:ext cx="28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2458800" y="4457880"/>
            <a:ext cx="83880" cy="127080"/>
            <a:chOff x="2458800" y="4457880"/>
            <a:chExt cx="83880" cy="127080"/>
          </a:xfrm>
        </p:grpSpPr>
        <p:sp>
          <p:nvSpPr>
            <p:cNvPr id="1411" name=""/>
            <p:cNvSpPr/>
            <p:nvPr/>
          </p:nvSpPr>
          <p:spPr>
            <a:xfrm flipH="1" flipV="1">
              <a:off x="2458800" y="4476240"/>
              <a:ext cx="82440" cy="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flipV="1">
              <a:off x="2491200" y="4505400"/>
              <a:ext cx="2124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2539800" y="4565880"/>
              <a:ext cx="28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2459880" y="4457880"/>
              <a:ext cx="28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2458800" y="4322880"/>
            <a:ext cx="83880" cy="128160"/>
            <a:chOff x="2458800" y="4322880"/>
            <a:chExt cx="83880" cy="128160"/>
          </a:xfrm>
        </p:grpSpPr>
        <p:sp>
          <p:nvSpPr>
            <p:cNvPr id="1416" name=""/>
            <p:cNvSpPr/>
            <p:nvPr/>
          </p:nvSpPr>
          <p:spPr>
            <a:xfrm flipH="1" flipV="1">
              <a:off x="2458800" y="4341240"/>
              <a:ext cx="82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2491200" y="4370400"/>
              <a:ext cx="212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2539800" y="4431600"/>
              <a:ext cx="28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2459880" y="4322880"/>
              <a:ext cx="288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2458800" y="4189320"/>
            <a:ext cx="83880" cy="132120"/>
            <a:chOff x="2458800" y="4189320"/>
            <a:chExt cx="83880" cy="132120"/>
          </a:xfrm>
        </p:grpSpPr>
        <p:sp>
          <p:nvSpPr>
            <p:cNvPr id="1421" name=""/>
            <p:cNvSpPr/>
            <p:nvPr/>
          </p:nvSpPr>
          <p:spPr>
            <a:xfrm flipH="1" flipV="1">
              <a:off x="2458800" y="4208400"/>
              <a:ext cx="8244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flipV="1">
              <a:off x="2491200" y="4238280"/>
              <a:ext cx="2124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2539800" y="4301640"/>
              <a:ext cx="28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2459880" y="4189320"/>
              <a:ext cx="288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500200" y="425304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 flipV="1" rot="5400000">
            <a:off x="2792160" y="3859200"/>
            <a:ext cx="1209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587680" y="4109760"/>
            <a:ext cx="129240" cy="83880"/>
            <a:chOff x="2587680" y="4109760"/>
            <a:chExt cx="129240" cy="83880"/>
          </a:xfrm>
        </p:grpSpPr>
        <p:sp>
          <p:nvSpPr>
            <p:cNvPr id="1428" name=""/>
            <p:cNvSpPr/>
            <p:nvPr/>
          </p:nvSpPr>
          <p:spPr>
            <a:xfrm flipV="1">
              <a:off x="2612160" y="4109760"/>
              <a:ext cx="867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 rot="5400000">
              <a:off x="2641680" y="4136040"/>
              <a:ext cx="2124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2587680" y="419076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2697120" y="4110840"/>
              <a:ext cx="198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2720520" y="4109760"/>
            <a:ext cx="127440" cy="83880"/>
            <a:chOff x="2720520" y="4109760"/>
            <a:chExt cx="127440" cy="83880"/>
          </a:xfrm>
        </p:grpSpPr>
        <p:sp>
          <p:nvSpPr>
            <p:cNvPr id="1433" name=""/>
            <p:cNvSpPr/>
            <p:nvPr/>
          </p:nvSpPr>
          <p:spPr>
            <a:xfrm flipV="1">
              <a:off x="2745000" y="4109760"/>
              <a:ext cx="846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 flipV="1" rot="5400000">
              <a:off x="2773440" y="4136400"/>
              <a:ext cx="2124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 flipV="1">
              <a:off x="2720520" y="4190760"/>
              <a:ext cx="19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flipV="1">
              <a:off x="2828520" y="411084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2852640" y="4109760"/>
            <a:ext cx="128160" cy="83880"/>
            <a:chOff x="2852640" y="4109760"/>
            <a:chExt cx="128160" cy="83880"/>
          </a:xfrm>
        </p:grpSpPr>
        <p:sp>
          <p:nvSpPr>
            <p:cNvPr id="1438" name=""/>
            <p:cNvSpPr/>
            <p:nvPr/>
          </p:nvSpPr>
          <p:spPr>
            <a:xfrm flipV="1">
              <a:off x="2876760" y="4109760"/>
              <a:ext cx="8568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 rot="5400000">
              <a:off x="2905560" y="4136400"/>
              <a:ext cx="212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2852640" y="419076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2961360" y="411084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 flipH="1">
            <a:off x="2430000" y="415116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60920" y="3860640"/>
            <a:ext cx="77472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60840" y="673200"/>
            <a:ext cx="0" cy="49276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423040" y="660240"/>
            <a:ext cx="952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486400" y="16002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86400" y="26035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499000" y="358128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486400" y="45720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35640" y="5600880"/>
            <a:ext cx="9396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48720" y="63504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835760" y="16383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861320" y="264168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873920" y="361944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835760" y="45975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848720" y="561348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81880" y="622440"/>
            <a:ext cx="0" cy="5943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4965480" y="6578640"/>
            <a:ext cx="3429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4952880" y="4419360"/>
            <a:ext cx="0" cy="21841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4673520" y="4457880"/>
            <a:ext cx="2793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371600" y="38736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04440" y="353376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12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704840" y="34322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92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320840" y="44323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22360" y="347328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5681520" y="428400"/>
            <a:ext cx="266760" cy="438120"/>
            <a:chOff x="5681520" y="428400"/>
            <a:chExt cx="266760" cy="438120"/>
          </a:xfrm>
        </p:grpSpPr>
        <p:sp>
          <p:nvSpPr>
            <p:cNvPr id="1467" name=""/>
            <p:cNvSpPr/>
            <p:nvPr/>
          </p:nvSpPr>
          <p:spPr>
            <a:xfrm>
              <a:off x="5695920" y="56196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5681520" y="42840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688000" y="1372680"/>
            <a:ext cx="266760" cy="438120"/>
            <a:chOff x="5688000" y="1372680"/>
            <a:chExt cx="266760" cy="438120"/>
          </a:xfrm>
        </p:grpSpPr>
        <p:sp>
          <p:nvSpPr>
            <p:cNvPr id="1470" name=""/>
            <p:cNvSpPr/>
            <p:nvPr/>
          </p:nvSpPr>
          <p:spPr>
            <a:xfrm>
              <a:off x="5702400" y="15062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5688000" y="13726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5683320" y="2382480"/>
            <a:ext cx="266760" cy="438120"/>
            <a:chOff x="5683320" y="2382480"/>
            <a:chExt cx="266760" cy="438120"/>
          </a:xfrm>
        </p:grpSpPr>
        <p:sp>
          <p:nvSpPr>
            <p:cNvPr id="1473" name=""/>
            <p:cNvSpPr/>
            <p:nvPr/>
          </p:nvSpPr>
          <p:spPr>
            <a:xfrm>
              <a:off x="5697720" y="25160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5683320" y="23824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680080" y="3355560"/>
            <a:ext cx="266760" cy="438120"/>
            <a:chOff x="5680080" y="3355560"/>
            <a:chExt cx="266760" cy="438120"/>
          </a:xfrm>
        </p:grpSpPr>
        <p:sp>
          <p:nvSpPr>
            <p:cNvPr id="1476" name=""/>
            <p:cNvSpPr/>
            <p:nvPr/>
          </p:nvSpPr>
          <p:spPr>
            <a:xfrm>
              <a:off x="5694480" y="348912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5680080" y="335556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5689440" y="4341600"/>
            <a:ext cx="266760" cy="438120"/>
            <a:chOff x="5689440" y="4341600"/>
            <a:chExt cx="266760" cy="438120"/>
          </a:xfrm>
        </p:grpSpPr>
        <p:sp>
          <p:nvSpPr>
            <p:cNvPr id="1479" name=""/>
            <p:cNvSpPr/>
            <p:nvPr/>
          </p:nvSpPr>
          <p:spPr>
            <a:xfrm>
              <a:off x="5703840" y="447516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5689440" y="434160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5681520" y="5366880"/>
            <a:ext cx="266760" cy="438120"/>
            <a:chOff x="5681520" y="5366880"/>
            <a:chExt cx="266760" cy="438120"/>
          </a:xfrm>
        </p:grpSpPr>
        <p:sp>
          <p:nvSpPr>
            <p:cNvPr id="1482" name=""/>
            <p:cNvSpPr/>
            <p:nvPr/>
          </p:nvSpPr>
          <p:spPr>
            <a:xfrm>
              <a:off x="5695920" y="55004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5681520" y="53668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3381480" y="3556080"/>
            <a:ext cx="260280" cy="593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75000" y="3554280"/>
            <a:ext cx="26028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602160" y="2329920"/>
            <a:ext cx="0" cy="1235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567240" y="306540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381480" y="3571920"/>
            <a:ext cx="247680" cy="57132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3387600" y="3568680"/>
            <a:ext cx="247680" cy="571680"/>
          </a:xfrm>
          <a:prstGeom prst="rtTriangl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3514680" y="3571920"/>
            <a:ext cx="11448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1633680" y="1616040"/>
            <a:ext cx="1347480" cy="952560"/>
            <a:chOff x="1633680" y="1616040"/>
            <a:chExt cx="1347480" cy="952560"/>
          </a:xfrm>
        </p:grpSpPr>
        <p:sp>
          <p:nvSpPr>
            <p:cNvPr id="1492" name=""/>
            <p:cNvSpPr/>
            <p:nvPr/>
          </p:nvSpPr>
          <p:spPr>
            <a:xfrm>
              <a:off x="1808280" y="1725480"/>
              <a:ext cx="784080" cy="74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638440" y="201600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38440" y="24382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638440" y="195552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638440" y="177480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638440" y="23176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638440" y="21970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638440" y="189540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638440" y="237780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638440" y="2076480"/>
              <a:ext cx="272880" cy="4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638440" y="183492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638440" y="171432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638440" y="225720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38440" y="2136600"/>
              <a:ext cx="272880" cy="44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163600" y="204948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"/>
            <p:cNvGrpSpPr/>
            <p:nvPr/>
          </p:nvGrpSpPr>
          <p:grpSpPr>
            <a:xfrm>
              <a:off x="2071440" y="1747440"/>
              <a:ext cx="257400" cy="306720"/>
              <a:chOff x="2071440" y="1747440"/>
              <a:chExt cx="257400" cy="306720"/>
            </a:xfrm>
          </p:grpSpPr>
          <p:sp>
            <p:nvSpPr>
              <p:cNvPr id="1508" name=""/>
              <p:cNvSpPr/>
              <p:nvPr/>
            </p:nvSpPr>
            <p:spPr>
              <a:xfrm flipV="1">
                <a:off x="2266920" y="1766880"/>
                <a:ext cx="6192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2071440" y="1780920"/>
                <a:ext cx="7452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074680" y="1752480"/>
                <a:ext cx="810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2155680" y="1747440"/>
                <a:ext cx="907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51080" y="1749240"/>
                <a:ext cx="7308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143080" y="2035080"/>
                <a:ext cx="414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2228760" y="2028600"/>
                <a:ext cx="367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184480" y="2039760"/>
                <a:ext cx="93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27320" y="2033280"/>
                <a:ext cx="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2244600" y="2051640"/>
              <a:ext cx="308520" cy="279000"/>
              <a:chOff x="2244600" y="2051640"/>
              <a:chExt cx="308520" cy="279000"/>
            </a:xfrm>
          </p:grpSpPr>
          <p:sp>
            <p:nvSpPr>
              <p:cNvPr id="1518" name=""/>
              <p:cNvSpPr/>
              <p:nvPr/>
            </p:nvSpPr>
            <p:spPr>
              <a:xfrm>
                <a:off x="2246040" y="2167200"/>
                <a:ext cx="21564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83480" y="2051640"/>
                <a:ext cx="2696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2545200" y="2091960"/>
                <a:ext cx="5040" cy="8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2513160" y="2177640"/>
                <a:ext cx="3096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2466720" y="2266560"/>
                <a:ext cx="4284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2272320" y="2052360"/>
                <a:ext cx="1944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2248200" y="2130480"/>
                <a:ext cx="900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2253960" y="2088000"/>
                <a:ext cx="169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flipV="1">
                <a:off x="2244600" y="2123280"/>
                <a:ext cx="147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1861560" y="2088360"/>
              <a:ext cx="331200" cy="303840"/>
              <a:chOff x="1861560" y="2088360"/>
              <a:chExt cx="331200" cy="303840"/>
            </a:xfrm>
          </p:grpSpPr>
          <p:sp>
            <p:nvSpPr>
              <p:cNvPr id="1528" name=""/>
              <p:cNvSpPr/>
              <p:nvPr/>
            </p:nvSpPr>
            <p:spPr>
              <a:xfrm flipH="1">
                <a:off x="1861560" y="2088360"/>
                <a:ext cx="2509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2021760" y="2179800"/>
                <a:ext cx="171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 flipV="1">
                <a:off x="1949760" y="2339640"/>
                <a:ext cx="7128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 flipV="1">
                <a:off x="1893240" y="2268360"/>
                <a:ext cx="5760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 flipV="1">
                <a:off x="1861560" y="2195640"/>
                <a:ext cx="3060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 flipV="1">
                <a:off x="2166480" y="2151360"/>
                <a:ext cx="21240" cy="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12120" y="2090520"/>
                <a:ext cx="2628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2167920" y="2134440"/>
                <a:ext cx="612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2137680" y="2109600"/>
                <a:ext cx="133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7" name=""/>
            <p:cNvSpPr/>
            <p:nvPr/>
          </p:nvSpPr>
          <p:spPr>
            <a:xfrm>
              <a:off x="1633680" y="1616040"/>
              <a:ext cx="1347480" cy="95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 flipH="1">
            <a:off x="2989080" y="2336760"/>
            <a:ext cx="595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440160" y="2424240"/>
            <a:ext cx="0" cy="1103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2975040" y="245268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071880" y="169848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2" name=""/>
          <p:cNvGraphicFramePr/>
          <p:nvPr/>
        </p:nvGraphicFramePr>
        <p:xfrm>
          <a:off x="0" y="4842000"/>
          <a:ext cx="3305160" cy="201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0"/>
                    <a:ext cx="33051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4" name=""/>
          <p:cNvGrpSpPr/>
          <p:nvPr/>
        </p:nvGrpSpPr>
        <p:grpSpPr>
          <a:xfrm>
            <a:off x="6383520" y="471600"/>
            <a:ext cx="1453680" cy="828720"/>
            <a:chOff x="6383520" y="471600"/>
            <a:chExt cx="1453680" cy="828720"/>
          </a:xfrm>
        </p:grpSpPr>
        <p:sp>
          <p:nvSpPr>
            <p:cNvPr id="1545" name=""/>
            <p:cNvSpPr/>
            <p:nvPr/>
          </p:nvSpPr>
          <p:spPr>
            <a:xfrm>
              <a:off x="6386400" y="53064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233120" y="471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83520" y="4939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6383520" y="1460520"/>
            <a:ext cx="1454040" cy="828720"/>
            <a:chOff x="6383520" y="1460520"/>
            <a:chExt cx="1454040" cy="828720"/>
          </a:xfrm>
        </p:grpSpPr>
        <p:sp>
          <p:nvSpPr>
            <p:cNvPr id="1549" name=""/>
            <p:cNvSpPr/>
            <p:nvPr/>
          </p:nvSpPr>
          <p:spPr>
            <a:xfrm>
              <a:off x="6386760" y="1519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33480" y="146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83520" y="1482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6383520" y="2449440"/>
            <a:ext cx="1454040" cy="828720"/>
            <a:chOff x="6383520" y="2449440"/>
            <a:chExt cx="1454040" cy="828720"/>
          </a:xfrm>
        </p:grpSpPr>
        <p:sp>
          <p:nvSpPr>
            <p:cNvPr id="1553" name=""/>
            <p:cNvSpPr/>
            <p:nvPr/>
          </p:nvSpPr>
          <p:spPr>
            <a:xfrm>
              <a:off x="6386760" y="2508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233480" y="2449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83520" y="2471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383520" y="3440160"/>
            <a:ext cx="1454040" cy="828720"/>
            <a:chOff x="6383520" y="3440160"/>
            <a:chExt cx="1454040" cy="828720"/>
          </a:xfrm>
        </p:grpSpPr>
        <p:sp>
          <p:nvSpPr>
            <p:cNvPr id="1557" name=""/>
            <p:cNvSpPr/>
            <p:nvPr/>
          </p:nvSpPr>
          <p:spPr>
            <a:xfrm>
              <a:off x="6386760" y="3498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233480" y="3440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383520" y="346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6383520" y="4429080"/>
            <a:ext cx="1454040" cy="828720"/>
            <a:chOff x="6383520" y="4429080"/>
            <a:chExt cx="1454040" cy="828720"/>
          </a:xfrm>
        </p:grpSpPr>
        <p:sp>
          <p:nvSpPr>
            <p:cNvPr id="1561" name=""/>
            <p:cNvSpPr/>
            <p:nvPr/>
          </p:nvSpPr>
          <p:spPr>
            <a:xfrm>
              <a:off x="6386760" y="44881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33480" y="4429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83520" y="4451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6383520" y="5419800"/>
            <a:ext cx="1454040" cy="828720"/>
            <a:chOff x="6383520" y="5419800"/>
            <a:chExt cx="1454040" cy="828720"/>
          </a:xfrm>
        </p:grpSpPr>
        <p:sp>
          <p:nvSpPr>
            <p:cNvPr id="1565" name=""/>
            <p:cNvSpPr/>
            <p:nvPr/>
          </p:nvSpPr>
          <p:spPr>
            <a:xfrm>
              <a:off x="6386760" y="54784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233480" y="541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83520" y="544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1634400" y="12430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-9000" y="0"/>
            <a:ext cx="68968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tónomo mediante unidades terminales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658800" y="1273320"/>
            <a:ext cx="4270320" cy="4192560"/>
            <a:chOff x="658800" y="1273320"/>
            <a:chExt cx="4270320" cy="4192560"/>
          </a:xfrm>
        </p:grpSpPr>
        <p:sp>
          <p:nvSpPr>
            <p:cNvPr id="1571" name=""/>
            <p:cNvSpPr/>
            <p:nvPr/>
          </p:nvSpPr>
          <p:spPr>
            <a:xfrm>
              <a:off x="4040280" y="156708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flipV="1">
              <a:off x="4246560" y="154800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8560" y="142092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30560" y="187344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4033800" y="187200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033800" y="18669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478320" y="16783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25040" y="16192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475080" y="16416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040280" y="307512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4246560" y="30560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148560" y="292896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30560" y="338148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4033800" y="338004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033800" y="33753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478320" y="318636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325040" y="31276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75080" y="31496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40280" y="45849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4246560" y="45658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148560" y="44388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030560" y="48913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033800" y="48895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033800" y="48848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78320" y="4695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325040" y="463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75080" y="46594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2043000" y="1941840"/>
              <a:ext cx="197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032360" y="187200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33800" y="33832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29120" y="489744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658800" y="1273320"/>
              <a:ext cx="1347480" cy="952560"/>
              <a:chOff x="658800" y="1273320"/>
              <a:chExt cx="1347480" cy="952560"/>
            </a:xfrm>
          </p:grpSpPr>
          <p:sp>
            <p:nvSpPr>
              <p:cNvPr id="1603" name=""/>
              <p:cNvSpPr/>
              <p:nvPr/>
            </p:nvSpPr>
            <p:spPr>
              <a:xfrm>
                <a:off x="833400" y="1382760"/>
                <a:ext cx="784080" cy="74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663560" y="167328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663560" y="20955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663560" y="161280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663560" y="143208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663560" y="19749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663560" y="18543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663560" y="155268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663560" y="20350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663560" y="17337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663560" y="149220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663560" y="137160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663560" y="19144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663560" y="17938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188720" y="1706760"/>
                <a:ext cx="88920" cy="88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1096560" y="1404720"/>
                <a:ext cx="257400" cy="306720"/>
                <a:chOff x="1096560" y="1404720"/>
                <a:chExt cx="257400" cy="306720"/>
              </a:xfrm>
            </p:grpSpPr>
            <p:sp>
              <p:nvSpPr>
                <p:cNvPr id="1619" name=""/>
                <p:cNvSpPr/>
                <p:nvPr/>
              </p:nvSpPr>
              <p:spPr>
                <a:xfrm flipV="1">
                  <a:off x="1292040" y="1424160"/>
                  <a:ext cx="61920" cy="26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flipV="1">
                  <a:off x="1096560" y="1438200"/>
                  <a:ext cx="74520" cy="2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1099800" y="1409760"/>
                  <a:ext cx="8100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1180800" y="1404720"/>
                  <a:ext cx="9072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1276200" y="1406520"/>
                  <a:ext cx="73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1168200" y="1692360"/>
                  <a:ext cx="41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1253880" y="1685880"/>
                  <a:ext cx="3672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1209600" y="1697040"/>
                  <a:ext cx="93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1252440" y="1690560"/>
                  <a:ext cx="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1269720" y="1708920"/>
                <a:ext cx="308520" cy="279000"/>
                <a:chOff x="1269720" y="1708920"/>
                <a:chExt cx="308520" cy="27900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1271160" y="1824480"/>
                  <a:ext cx="215640" cy="16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1308600" y="1708920"/>
                  <a:ext cx="269640" cy="3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1570320" y="1749240"/>
                  <a:ext cx="5040" cy="8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1538280" y="1834920"/>
                  <a:ext cx="30960" cy="8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1491840" y="1923840"/>
                  <a:ext cx="42840" cy="6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1297440" y="1709640"/>
                  <a:ext cx="1944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V="1">
                  <a:off x="1273320" y="1787760"/>
                  <a:ext cx="900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1279080" y="1745280"/>
                  <a:ext cx="169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 flipV="1">
                  <a:off x="1269720" y="1780560"/>
                  <a:ext cx="1476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86680" y="1745640"/>
                <a:ext cx="331200" cy="303840"/>
                <a:chOff x="886680" y="1745640"/>
                <a:chExt cx="331200" cy="303840"/>
              </a:xfrm>
            </p:grpSpPr>
            <p:sp>
              <p:nvSpPr>
                <p:cNvPr id="1639" name=""/>
                <p:cNvSpPr/>
                <p:nvPr/>
              </p:nvSpPr>
              <p:spPr>
                <a:xfrm flipH="1">
                  <a:off x="886680" y="1745640"/>
                  <a:ext cx="25092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1046880" y="1837080"/>
                  <a:ext cx="171000" cy="21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 flipV="1">
                  <a:off x="974880" y="1996920"/>
                  <a:ext cx="7128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 flipV="1">
                  <a:off x="918360" y="1925640"/>
                  <a:ext cx="576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 flipV="1">
                  <a:off x="886680" y="1852920"/>
                  <a:ext cx="30600" cy="6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 flipV="1">
                  <a:off x="1191600" y="1808640"/>
                  <a:ext cx="21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137240" y="1747800"/>
                  <a:ext cx="262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V="1">
                  <a:off x="1193040" y="1791720"/>
                  <a:ext cx="6120" cy="1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1162800" y="1766880"/>
                  <a:ext cx="1332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" name=""/>
              <p:cNvSpPr/>
              <p:nvPr/>
            </p:nvSpPr>
            <p:spPr>
              <a:xfrm>
                <a:off x="658800" y="1273320"/>
                <a:ext cx="1347480" cy="95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2784600" y="19432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2779560" y="3465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2766960" y="4977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2982600" y="232272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2271240" y="231012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957040" y="382140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2246040" y="5307120"/>
              <a:ext cx="173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51080" y="2171880"/>
              <a:ext cx="0" cy="3137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1992240" y="21574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2233080" y="380844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694400" y="511200"/>
            <a:ext cx="4270320" cy="4192560"/>
            <a:chOff x="4694400" y="511200"/>
            <a:chExt cx="4270320" cy="4192560"/>
          </a:xfrm>
        </p:grpSpPr>
        <p:sp>
          <p:nvSpPr>
            <p:cNvPr id="1660" name=""/>
            <p:cNvSpPr/>
            <p:nvPr/>
          </p:nvSpPr>
          <p:spPr>
            <a:xfrm>
              <a:off x="8075880" y="8049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8282160" y="7858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84160" y="6588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066160" y="11113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8069400" y="110988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069400" y="11048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13920" y="91620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360640" y="85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10680" y="8794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075880" y="231300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8282160" y="229392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184160" y="216684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066160" y="261936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8069400" y="26179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069400" y="26132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513920" y="24242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360640" y="23655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510680" y="23875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75880" y="382284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 flipV="1">
              <a:off x="8282160" y="380376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184160" y="367668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066160" y="412920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8069400" y="412740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069400" y="412272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13920" y="39337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60640" y="38750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510680" y="38973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6078600" y="1179720"/>
              <a:ext cx="197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067960" y="11098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069400" y="262116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064720" y="413532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4694400" y="511200"/>
              <a:ext cx="1347480" cy="952560"/>
              <a:chOff x="4694400" y="511200"/>
              <a:chExt cx="1347480" cy="952560"/>
            </a:xfrm>
          </p:grpSpPr>
          <p:sp>
            <p:nvSpPr>
              <p:cNvPr id="1692" name=""/>
              <p:cNvSpPr/>
              <p:nvPr/>
            </p:nvSpPr>
            <p:spPr>
              <a:xfrm>
                <a:off x="4869000" y="620640"/>
                <a:ext cx="784080" cy="74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699160" y="9111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699160" y="13334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99160" y="8506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99160" y="6699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99160" y="12128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699160" y="10922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699160" y="7905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699160" y="127296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699160" y="9716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699160" y="7300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699160" y="6094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699160" y="115236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699160" y="103176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224320" y="944640"/>
                <a:ext cx="88920" cy="88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7" name=""/>
              <p:cNvGrpSpPr/>
              <p:nvPr/>
            </p:nvGrpSpPr>
            <p:grpSpPr>
              <a:xfrm>
                <a:off x="5132160" y="642600"/>
                <a:ext cx="257400" cy="306720"/>
                <a:chOff x="5132160" y="642600"/>
                <a:chExt cx="257400" cy="306720"/>
              </a:xfrm>
            </p:grpSpPr>
            <p:sp>
              <p:nvSpPr>
                <p:cNvPr id="1708" name=""/>
                <p:cNvSpPr/>
                <p:nvPr/>
              </p:nvSpPr>
              <p:spPr>
                <a:xfrm flipV="1">
                  <a:off x="5327640" y="662040"/>
                  <a:ext cx="61920" cy="26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 flipV="1">
                  <a:off x="5132160" y="676080"/>
                  <a:ext cx="74520" cy="2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V="1">
                  <a:off x="5135400" y="647640"/>
                  <a:ext cx="8100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V="1">
                  <a:off x="5216400" y="642600"/>
                  <a:ext cx="9072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311800" y="644400"/>
                  <a:ext cx="73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5203800" y="930240"/>
                  <a:ext cx="41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5289480" y="923760"/>
                  <a:ext cx="3672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245200" y="934920"/>
                  <a:ext cx="93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288040" y="928440"/>
                  <a:ext cx="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5305320" y="946800"/>
                <a:ext cx="308520" cy="279000"/>
                <a:chOff x="5305320" y="946800"/>
                <a:chExt cx="308520" cy="2790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5306760" y="1062360"/>
                  <a:ext cx="215640" cy="16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344200" y="946800"/>
                  <a:ext cx="269640" cy="3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>
                  <a:off x="5605920" y="987120"/>
                  <a:ext cx="5040" cy="8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5573880" y="1072800"/>
                  <a:ext cx="30960" cy="8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527440" y="1161720"/>
                  <a:ext cx="42840" cy="6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H="1">
                  <a:off x="5333040" y="947520"/>
                  <a:ext cx="1944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V="1">
                  <a:off x="5308920" y="1025640"/>
                  <a:ext cx="900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H="1">
                  <a:off x="5314680" y="983160"/>
                  <a:ext cx="169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 flipV="1">
                  <a:off x="5305320" y="1018440"/>
                  <a:ext cx="1476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4922280" y="983520"/>
                <a:ext cx="331200" cy="303840"/>
                <a:chOff x="4922280" y="983520"/>
                <a:chExt cx="331200" cy="303840"/>
              </a:xfrm>
            </p:grpSpPr>
            <p:sp>
              <p:nvSpPr>
                <p:cNvPr id="1728" name=""/>
                <p:cNvSpPr/>
                <p:nvPr/>
              </p:nvSpPr>
              <p:spPr>
                <a:xfrm flipH="1">
                  <a:off x="4922280" y="983520"/>
                  <a:ext cx="25092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>
                  <a:off x="5082480" y="1074960"/>
                  <a:ext cx="171000" cy="21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 flipV="1">
                  <a:off x="5010480" y="1234800"/>
                  <a:ext cx="7128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H="1" flipV="1">
                  <a:off x="4953960" y="1163520"/>
                  <a:ext cx="576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 flipV="1">
                  <a:off x="4922280" y="1090800"/>
                  <a:ext cx="30600" cy="6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 flipV="1">
                  <a:off x="5227200" y="1046520"/>
                  <a:ext cx="21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172840" y="985680"/>
                  <a:ext cx="262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V="1">
                  <a:off x="5228640" y="1029600"/>
                  <a:ext cx="6120" cy="1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V="1">
                  <a:off x="5198400" y="1004760"/>
                  <a:ext cx="1332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694400" y="511200"/>
                <a:ext cx="1347480" cy="95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>
              <a:off x="6820200" y="118116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6815160" y="27036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6802560" y="42148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7018200" y="156060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6306840" y="154800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6992640" y="305928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281640" y="4545000"/>
              <a:ext cx="173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86680" y="1409760"/>
              <a:ext cx="0" cy="3137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6027840" y="139536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6268680" y="304632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"/>
          <p:cNvSpPr/>
          <p:nvPr/>
        </p:nvSpPr>
        <p:spPr>
          <a:xfrm>
            <a:off x="649800" y="2409840"/>
            <a:ext cx="654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7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358960" y="1558800"/>
            <a:ext cx="57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7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83560" y="8492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412440" y="5317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2" name=""/>
          <p:cNvGraphicFramePr/>
          <p:nvPr/>
        </p:nvGraphicFramePr>
        <p:xfrm>
          <a:off x="5427720" y="4876920"/>
          <a:ext cx="37162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7720" y="4876920"/>
                    <a:ext cx="3716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4" name=""/>
          <p:cNvGraphicFramePr/>
          <p:nvPr/>
        </p:nvGraphicFramePr>
        <p:xfrm>
          <a:off x="582480" y="5684760"/>
          <a:ext cx="330516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2480" y="5684760"/>
                    <a:ext cx="33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5040" y="0"/>
            <a:ext cx="61394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tónomo mediante unidades terminales V.R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658800" y="1273320"/>
            <a:ext cx="4270320" cy="4192560"/>
            <a:chOff x="658800" y="1273320"/>
            <a:chExt cx="4270320" cy="4192560"/>
          </a:xfrm>
        </p:grpSpPr>
        <p:sp>
          <p:nvSpPr>
            <p:cNvPr id="1758" name=""/>
            <p:cNvSpPr/>
            <p:nvPr/>
          </p:nvSpPr>
          <p:spPr>
            <a:xfrm>
              <a:off x="4040280" y="156708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4246560" y="154800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48560" y="142092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30560" y="187344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4033800" y="187200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033800" y="18669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478320" y="16783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25040" y="16192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475080" y="16416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040280" y="307512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4246560" y="30560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148560" y="292896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030560" y="338148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33800" y="338004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033800" y="33753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478320" y="318636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325040" y="31276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75080" y="31496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040280" y="45849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 flipV="1">
              <a:off x="4246560" y="45658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148560" y="44388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030560" y="48913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4033800" y="48895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33800" y="48848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478320" y="4695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25040" y="463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75080" y="46594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043000" y="1941840"/>
              <a:ext cx="197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032360" y="187200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033800" y="33832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29120" y="489744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9" name=""/>
            <p:cNvGrpSpPr/>
            <p:nvPr/>
          </p:nvGrpSpPr>
          <p:grpSpPr>
            <a:xfrm>
              <a:off x="658800" y="1273320"/>
              <a:ext cx="1347480" cy="952560"/>
              <a:chOff x="658800" y="1273320"/>
              <a:chExt cx="1347480" cy="952560"/>
            </a:xfrm>
          </p:grpSpPr>
          <p:sp>
            <p:nvSpPr>
              <p:cNvPr id="1790" name=""/>
              <p:cNvSpPr/>
              <p:nvPr/>
            </p:nvSpPr>
            <p:spPr>
              <a:xfrm>
                <a:off x="833400" y="1382760"/>
                <a:ext cx="784080" cy="74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663560" y="167328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663560" y="20955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663560" y="161280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663560" y="143208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663560" y="19749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663560" y="18543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663560" y="155268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663560" y="20350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663560" y="17337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663560" y="149220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63560" y="137160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663560" y="19144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663560" y="17938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188720" y="1706760"/>
                <a:ext cx="88920" cy="88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096560" y="1404720"/>
                <a:ext cx="257400" cy="306720"/>
                <a:chOff x="1096560" y="1404720"/>
                <a:chExt cx="257400" cy="306720"/>
              </a:xfrm>
            </p:grpSpPr>
            <p:sp>
              <p:nvSpPr>
                <p:cNvPr id="1806" name=""/>
                <p:cNvSpPr/>
                <p:nvPr/>
              </p:nvSpPr>
              <p:spPr>
                <a:xfrm flipV="1">
                  <a:off x="1292040" y="1424160"/>
                  <a:ext cx="61920" cy="26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 flipV="1">
                  <a:off x="1096560" y="1438200"/>
                  <a:ext cx="74520" cy="2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V="1">
                  <a:off x="1099800" y="1409760"/>
                  <a:ext cx="8100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V="1">
                  <a:off x="1180800" y="1404720"/>
                  <a:ext cx="9072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76200" y="1406520"/>
                  <a:ext cx="73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1168200" y="1692360"/>
                  <a:ext cx="41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>
                  <a:off x="1253880" y="1685880"/>
                  <a:ext cx="3672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09600" y="1697040"/>
                  <a:ext cx="93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2440" y="1690560"/>
                  <a:ext cx="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1269720" y="1708920"/>
                <a:ext cx="308520" cy="279000"/>
                <a:chOff x="1269720" y="1708920"/>
                <a:chExt cx="308520" cy="27900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1271160" y="1824480"/>
                  <a:ext cx="215640" cy="16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08600" y="1708920"/>
                  <a:ext cx="269640" cy="3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>
                  <a:off x="1570320" y="1749240"/>
                  <a:ext cx="5040" cy="8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1538280" y="1834920"/>
                  <a:ext cx="30960" cy="8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1491840" y="1923840"/>
                  <a:ext cx="42840" cy="6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>
                  <a:off x="1297440" y="1709640"/>
                  <a:ext cx="1944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V="1">
                  <a:off x="1273320" y="1787760"/>
                  <a:ext cx="900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 flipH="1">
                  <a:off x="1279080" y="1745280"/>
                  <a:ext cx="169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H="1" flipV="1">
                  <a:off x="1269720" y="1780560"/>
                  <a:ext cx="1476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886680" y="1745640"/>
                <a:ext cx="331200" cy="303840"/>
                <a:chOff x="886680" y="1745640"/>
                <a:chExt cx="331200" cy="303840"/>
              </a:xfrm>
            </p:grpSpPr>
            <p:sp>
              <p:nvSpPr>
                <p:cNvPr id="1826" name=""/>
                <p:cNvSpPr/>
                <p:nvPr/>
              </p:nvSpPr>
              <p:spPr>
                <a:xfrm flipH="1">
                  <a:off x="886680" y="1745640"/>
                  <a:ext cx="25092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flipH="1">
                  <a:off x="1046880" y="1837080"/>
                  <a:ext cx="171000" cy="21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 flipV="1">
                  <a:off x="974880" y="1996920"/>
                  <a:ext cx="7128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 flipV="1">
                  <a:off x="918360" y="1925640"/>
                  <a:ext cx="576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 flipV="1">
                  <a:off x="886680" y="1852920"/>
                  <a:ext cx="30600" cy="6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 flipV="1">
                  <a:off x="1191600" y="1808640"/>
                  <a:ext cx="21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137240" y="1747800"/>
                  <a:ext cx="262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V="1">
                  <a:off x="1193040" y="1791720"/>
                  <a:ext cx="6120" cy="1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V="1">
                  <a:off x="1162800" y="1766880"/>
                  <a:ext cx="1332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5" name=""/>
              <p:cNvSpPr/>
              <p:nvPr/>
            </p:nvSpPr>
            <p:spPr>
              <a:xfrm>
                <a:off x="658800" y="1273320"/>
                <a:ext cx="1347480" cy="95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"/>
            <p:cNvSpPr/>
            <p:nvPr/>
          </p:nvSpPr>
          <p:spPr>
            <a:xfrm>
              <a:off x="2784600" y="194328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2779560" y="3465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2766960" y="4977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2982600" y="232272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2271240" y="231012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957040" y="382140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2246040" y="5307120"/>
              <a:ext cx="173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251080" y="2171880"/>
              <a:ext cx="0" cy="3137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1992240" y="21574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2233080" y="380844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4694400" y="511200"/>
            <a:ext cx="4270320" cy="4192560"/>
            <a:chOff x="4694400" y="511200"/>
            <a:chExt cx="4270320" cy="4192560"/>
          </a:xfrm>
        </p:grpSpPr>
        <p:sp>
          <p:nvSpPr>
            <p:cNvPr id="1847" name=""/>
            <p:cNvSpPr/>
            <p:nvPr/>
          </p:nvSpPr>
          <p:spPr>
            <a:xfrm>
              <a:off x="8075880" y="8049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 flipV="1">
              <a:off x="8282160" y="7858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184160" y="6588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66160" y="11113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8069400" y="110988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069400" y="11048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513920" y="91620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360640" y="857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510680" y="8794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075880" y="231300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8282160" y="229392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184160" y="216684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066160" y="261936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8069400" y="26179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069400" y="26132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513920" y="24242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360640" y="23655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510680" y="23875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075880" y="382284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 flipV="1">
              <a:off x="8282160" y="380376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184160" y="367668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066160" y="412920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8069400" y="412740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069400" y="412272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513920" y="39337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360640" y="38750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510680" y="38973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6078600" y="1179720"/>
              <a:ext cx="197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67960" y="11098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69400" y="262116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064720" y="413532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4694400" y="511200"/>
              <a:ext cx="1347480" cy="952560"/>
              <a:chOff x="4694400" y="511200"/>
              <a:chExt cx="1347480" cy="952560"/>
            </a:xfrm>
          </p:grpSpPr>
          <p:sp>
            <p:nvSpPr>
              <p:cNvPr id="1879" name=""/>
              <p:cNvSpPr/>
              <p:nvPr/>
            </p:nvSpPr>
            <p:spPr>
              <a:xfrm>
                <a:off x="4869000" y="620640"/>
                <a:ext cx="784080" cy="743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699160" y="9111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699160" y="13334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699160" y="8506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699160" y="6699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699160" y="12128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699160" y="10922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699160" y="79056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699160" y="127296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699160" y="971640"/>
                <a:ext cx="272880" cy="44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699160" y="7300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699160" y="60948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99160" y="115236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699160" y="1031760"/>
                <a:ext cx="272880" cy="44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224320" y="944640"/>
                <a:ext cx="88920" cy="88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4" name=""/>
              <p:cNvGrpSpPr/>
              <p:nvPr/>
            </p:nvGrpSpPr>
            <p:grpSpPr>
              <a:xfrm>
                <a:off x="5132160" y="642600"/>
                <a:ext cx="257400" cy="306720"/>
                <a:chOff x="5132160" y="642600"/>
                <a:chExt cx="257400" cy="306720"/>
              </a:xfrm>
            </p:grpSpPr>
            <p:sp>
              <p:nvSpPr>
                <p:cNvPr id="1895" name=""/>
                <p:cNvSpPr/>
                <p:nvPr/>
              </p:nvSpPr>
              <p:spPr>
                <a:xfrm flipV="1">
                  <a:off x="5327640" y="662040"/>
                  <a:ext cx="61920" cy="26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H="1" flipV="1">
                  <a:off x="5132160" y="676080"/>
                  <a:ext cx="74520" cy="2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V="1">
                  <a:off x="5135400" y="647640"/>
                  <a:ext cx="8100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V="1">
                  <a:off x="5216400" y="642600"/>
                  <a:ext cx="9072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311800" y="644400"/>
                  <a:ext cx="73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203800" y="930240"/>
                  <a:ext cx="4140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H="1">
                  <a:off x="5289480" y="923760"/>
                  <a:ext cx="3672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245200" y="934920"/>
                  <a:ext cx="93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288040" y="928440"/>
                  <a:ext cx="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5305320" y="946800"/>
                <a:ext cx="308520" cy="279000"/>
                <a:chOff x="5305320" y="946800"/>
                <a:chExt cx="308520" cy="27900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5306760" y="1062360"/>
                  <a:ext cx="215640" cy="16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344200" y="946800"/>
                  <a:ext cx="269640" cy="3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H="1">
                  <a:off x="5605920" y="987120"/>
                  <a:ext cx="5040" cy="8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flipH="1">
                  <a:off x="5573880" y="1072800"/>
                  <a:ext cx="30960" cy="8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H="1">
                  <a:off x="5527440" y="1161720"/>
                  <a:ext cx="42840" cy="6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>
                  <a:off x="5333040" y="947520"/>
                  <a:ext cx="1944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V="1">
                  <a:off x="5308920" y="1025640"/>
                  <a:ext cx="9000" cy="3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5314680" y="983160"/>
                  <a:ext cx="1692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H="1" flipV="1">
                  <a:off x="5305320" y="1018440"/>
                  <a:ext cx="1476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4922280" y="983520"/>
                <a:ext cx="331200" cy="303840"/>
                <a:chOff x="4922280" y="983520"/>
                <a:chExt cx="331200" cy="303840"/>
              </a:xfrm>
            </p:grpSpPr>
            <p:sp>
              <p:nvSpPr>
                <p:cNvPr id="1915" name=""/>
                <p:cNvSpPr/>
                <p:nvPr/>
              </p:nvSpPr>
              <p:spPr>
                <a:xfrm flipH="1">
                  <a:off x="4922280" y="983520"/>
                  <a:ext cx="25092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5082480" y="1074960"/>
                  <a:ext cx="171000" cy="21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H="1" flipV="1">
                  <a:off x="5010480" y="1234800"/>
                  <a:ext cx="7128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flipH="1" flipV="1">
                  <a:off x="4953960" y="1163520"/>
                  <a:ext cx="576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H="1" flipV="1">
                  <a:off x="4922280" y="1090800"/>
                  <a:ext cx="30600" cy="6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flipH="1" flipV="1">
                  <a:off x="5227200" y="1046520"/>
                  <a:ext cx="21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172840" y="985680"/>
                  <a:ext cx="262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V="1">
                  <a:off x="5228640" y="1029600"/>
                  <a:ext cx="6120" cy="1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V="1">
                  <a:off x="5198400" y="1004760"/>
                  <a:ext cx="13320" cy="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4" name=""/>
              <p:cNvSpPr/>
              <p:nvPr/>
            </p:nvSpPr>
            <p:spPr>
              <a:xfrm>
                <a:off x="4694400" y="511200"/>
                <a:ext cx="1347480" cy="95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5" name=""/>
            <p:cNvSpPr/>
            <p:nvPr/>
          </p:nvSpPr>
          <p:spPr>
            <a:xfrm>
              <a:off x="6820200" y="118116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6815160" y="27036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6802560" y="42148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7018200" y="156060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6306840" y="154800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6992640" y="305928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6281640" y="4545000"/>
              <a:ext cx="173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86680" y="1409760"/>
              <a:ext cx="0" cy="3137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6027840" y="139536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6268680" y="304632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649800" y="2409840"/>
            <a:ext cx="654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7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58960" y="1558800"/>
            <a:ext cx="57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7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83560" y="8492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412440" y="5317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9" name=""/>
          <p:cNvGraphicFramePr/>
          <p:nvPr/>
        </p:nvGraphicFramePr>
        <p:xfrm>
          <a:off x="5427720" y="4876920"/>
          <a:ext cx="37162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7720" y="4876920"/>
                    <a:ext cx="3716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1" name=""/>
          <p:cNvGraphicFramePr/>
          <p:nvPr/>
        </p:nvGraphicFramePr>
        <p:xfrm>
          <a:off x="582480" y="5684760"/>
          <a:ext cx="330516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2480" y="5684760"/>
                    <a:ext cx="33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-6480" y="0"/>
            <a:ext cx="5193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tónomo mediante unidades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4" name=""/>
          <p:cNvGraphicFramePr/>
          <p:nvPr/>
        </p:nvGraphicFramePr>
        <p:xfrm>
          <a:off x="646200" y="5481720"/>
          <a:ext cx="3305160" cy="11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481720"/>
                    <a:ext cx="33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6" name=""/>
          <p:cNvSpPr/>
          <p:nvPr/>
        </p:nvSpPr>
        <p:spPr>
          <a:xfrm>
            <a:off x="802080" y="1305000"/>
            <a:ext cx="654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1517760" y="895320"/>
            <a:ext cx="2806560" cy="4044960"/>
            <a:chOff x="1517760" y="895320"/>
            <a:chExt cx="2806560" cy="4044960"/>
          </a:xfrm>
        </p:grpSpPr>
        <p:sp>
          <p:nvSpPr>
            <p:cNvPr id="1948" name=""/>
            <p:cNvSpPr/>
            <p:nvPr/>
          </p:nvSpPr>
          <p:spPr>
            <a:xfrm>
              <a:off x="3435480" y="104148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 flipV="1">
              <a:off x="3641760" y="102240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43760" y="89532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25760" y="134784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3429000" y="134604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429000" y="13413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873520" y="115236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20240" y="10936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870280" y="11160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435480" y="254952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 flipV="1">
              <a:off x="3641760" y="25304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43760" y="240336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425760" y="285588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3429000" y="285444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429000" y="284940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873520" y="266076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720240" y="2602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870280" y="26240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35480" y="40593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 flipV="1">
              <a:off x="3641760" y="4039920"/>
              <a:ext cx="7920" cy="2775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543760" y="39132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25760" y="43657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3429000" y="43639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29000" y="43592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873520" y="41702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720240" y="41115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870280" y="41338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2382480" y="141588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427560" y="134604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29000" y="2857680"/>
              <a:ext cx="171360" cy="51876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24320" y="437184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1549440" y="1271520"/>
              <a:ext cx="896760" cy="603360"/>
              <a:chOff x="1549440" y="1271520"/>
              <a:chExt cx="896760" cy="603360"/>
            </a:xfrm>
          </p:grpSpPr>
          <p:sp>
            <p:nvSpPr>
              <p:cNvPr id="1980" name=""/>
              <p:cNvSpPr/>
              <p:nvPr/>
            </p:nvSpPr>
            <p:spPr>
              <a:xfrm>
                <a:off x="1665360" y="1340640"/>
                <a:ext cx="521640" cy="47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217960" y="15246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217960" y="17924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217960" y="14864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217960" y="13719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217960" y="17157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217960" y="16394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217960" y="14482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217960" y="17539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217960" y="15631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217960" y="14101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217960" y="13334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217960" y="16776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217960" y="16012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901880" y="1545840"/>
                <a:ext cx="5904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5" name=""/>
              <p:cNvGrpSpPr/>
              <p:nvPr/>
            </p:nvGrpSpPr>
            <p:grpSpPr>
              <a:xfrm>
                <a:off x="1840680" y="1354680"/>
                <a:ext cx="171000" cy="194040"/>
                <a:chOff x="1840680" y="1354680"/>
                <a:chExt cx="171000" cy="194040"/>
              </a:xfrm>
            </p:grpSpPr>
            <p:sp>
              <p:nvSpPr>
                <p:cNvPr id="1996" name=""/>
                <p:cNvSpPr/>
                <p:nvPr/>
              </p:nvSpPr>
              <p:spPr>
                <a:xfrm flipV="1">
                  <a:off x="1970640" y="1366200"/>
                  <a:ext cx="41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 flipV="1">
                  <a:off x="1840680" y="1375200"/>
                  <a:ext cx="49320" cy="16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V="1">
                  <a:off x="1842840" y="1357200"/>
                  <a:ext cx="53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V="1">
                  <a:off x="1896840" y="1354680"/>
                  <a:ext cx="6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1960200" y="1355400"/>
                  <a:ext cx="4860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888200" y="1536480"/>
                  <a:ext cx="273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>
                  <a:off x="1945080" y="1532520"/>
                  <a:ext cx="2412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915920" y="1539720"/>
                  <a:ext cx="612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944360" y="1535400"/>
                  <a:ext cx="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5" name=""/>
              <p:cNvGrpSpPr/>
              <p:nvPr/>
            </p:nvGrpSpPr>
            <p:grpSpPr>
              <a:xfrm>
                <a:off x="1956960" y="1545480"/>
                <a:ext cx="203040" cy="180360"/>
                <a:chOff x="1956960" y="1545480"/>
                <a:chExt cx="203040" cy="18036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1958400" y="1619280"/>
                  <a:ext cx="1443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1981440" y="1545480"/>
                  <a:ext cx="1785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H="1">
                  <a:off x="2156040" y="1574640"/>
                  <a:ext cx="288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H="1">
                  <a:off x="2135520" y="1629000"/>
                  <a:ext cx="198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H="1">
                  <a:off x="2106000" y="1685520"/>
                  <a:ext cx="27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>
                  <a:off x="1974600" y="1545840"/>
                  <a:ext cx="1224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V="1">
                  <a:off x="1959480" y="1595880"/>
                  <a:ext cx="576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H="1">
                  <a:off x="1962720" y="1568880"/>
                  <a:ext cx="10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H="1" flipV="1">
                  <a:off x="1956960" y="1590840"/>
                  <a:ext cx="97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1703160" y="1568520"/>
                <a:ext cx="216720" cy="196560"/>
                <a:chOff x="1703160" y="1568520"/>
                <a:chExt cx="216720" cy="196560"/>
              </a:xfrm>
            </p:grpSpPr>
            <p:sp>
              <p:nvSpPr>
                <p:cNvPr id="2016" name=""/>
                <p:cNvSpPr/>
                <p:nvPr/>
              </p:nvSpPr>
              <p:spPr>
                <a:xfrm flipH="1">
                  <a:off x="1703160" y="1568520"/>
                  <a:ext cx="165600" cy="6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H="1">
                  <a:off x="1805040" y="1626120"/>
                  <a:ext cx="11484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 flipV="1">
                  <a:off x="1758240" y="1733040"/>
                  <a:ext cx="4572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 flipV="1">
                  <a:off x="1722960" y="1688040"/>
                  <a:ext cx="3636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H="1" flipV="1">
                  <a:off x="1703160" y="1641600"/>
                  <a:ext cx="1872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H="1" flipV="1">
                  <a:off x="1903320" y="1608480"/>
                  <a:ext cx="1368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1868760" y="1569960"/>
                  <a:ext cx="16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1904040" y="1597320"/>
                  <a:ext cx="43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V="1">
                  <a:off x="1884960" y="1581840"/>
                  <a:ext cx="864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5" name=""/>
              <p:cNvSpPr/>
              <p:nvPr/>
            </p:nvSpPr>
            <p:spPr>
              <a:xfrm>
                <a:off x="1549440" y="1271520"/>
                <a:ext cx="89676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 flipH="1">
              <a:off x="2392200" y="294012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379600" y="445140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2378160" y="179712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2352240" y="329580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2410920" y="4781520"/>
              <a:ext cx="962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1" name=""/>
            <p:cNvGrpSpPr/>
            <p:nvPr/>
          </p:nvGrpSpPr>
          <p:grpSpPr>
            <a:xfrm>
              <a:off x="1519200" y="2808360"/>
              <a:ext cx="897120" cy="603000"/>
              <a:chOff x="1519200" y="2808360"/>
              <a:chExt cx="897120" cy="603000"/>
            </a:xfrm>
          </p:grpSpPr>
          <p:sp>
            <p:nvSpPr>
              <p:cNvPr id="2032" name=""/>
              <p:cNvSpPr/>
              <p:nvPr/>
            </p:nvSpPr>
            <p:spPr>
              <a:xfrm>
                <a:off x="1635120" y="2877480"/>
                <a:ext cx="522000" cy="47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188080" y="30614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188080" y="33289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188080" y="30232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188080" y="29088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188080" y="32526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88080" y="31759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188080" y="29851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188080" y="32904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188080" y="30996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188080" y="29466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188080" y="28702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188080" y="32140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188080" y="313776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872000" y="3082680"/>
                <a:ext cx="5904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7" name=""/>
              <p:cNvGrpSpPr/>
              <p:nvPr/>
            </p:nvGrpSpPr>
            <p:grpSpPr>
              <a:xfrm>
                <a:off x="1810440" y="2891520"/>
                <a:ext cx="171000" cy="193680"/>
                <a:chOff x="1810440" y="2891520"/>
                <a:chExt cx="171000" cy="193680"/>
              </a:xfrm>
            </p:grpSpPr>
            <p:sp>
              <p:nvSpPr>
                <p:cNvPr id="2048" name=""/>
                <p:cNvSpPr/>
                <p:nvPr/>
              </p:nvSpPr>
              <p:spPr>
                <a:xfrm flipV="1">
                  <a:off x="1940400" y="2903040"/>
                  <a:ext cx="41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H="1" flipV="1">
                  <a:off x="1810440" y="2912400"/>
                  <a:ext cx="4932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1812600" y="2894040"/>
                  <a:ext cx="53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866600" y="2891520"/>
                  <a:ext cx="6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929960" y="2892240"/>
                  <a:ext cx="4860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857960" y="3072960"/>
                  <a:ext cx="273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>
                  <a:off x="1914840" y="3069000"/>
                  <a:ext cx="2412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885680" y="3076200"/>
                  <a:ext cx="612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914120" y="3071880"/>
                  <a:ext cx="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1926720" y="3081960"/>
                <a:ext cx="203040" cy="180360"/>
                <a:chOff x="1926720" y="3081960"/>
                <a:chExt cx="203040" cy="18036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1928160" y="3155760"/>
                  <a:ext cx="1443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1951200" y="3081960"/>
                  <a:ext cx="1785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H="1">
                  <a:off x="2125800" y="3111120"/>
                  <a:ext cx="288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>
                  <a:off x="2105280" y="3165480"/>
                  <a:ext cx="198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>
                  <a:off x="2075760" y="3222000"/>
                  <a:ext cx="27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>
                  <a:off x="1944360" y="3082320"/>
                  <a:ext cx="1224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1929240" y="3132360"/>
                  <a:ext cx="576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1932480" y="3105360"/>
                  <a:ext cx="10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 flipV="1">
                  <a:off x="1926720" y="3127320"/>
                  <a:ext cx="97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1673280" y="3105000"/>
                <a:ext cx="216720" cy="196560"/>
                <a:chOff x="1673280" y="3105000"/>
                <a:chExt cx="216720" cy="196560"/>
              </a:xfrm>
            </p:grpSpPr>
            <p:sp>
              <p:nvSpPr>
                <p:cNvPr id="2068" name=""/>
                <p:cNvSpPr/>
                <p:nvPr/>
              </p:nvSpPr>
              <p:spPr>
                <a:xfrm flipH="1">
                  <a:off x="1673280" y="3105000"/>
                  <a:ext cx="165600" cy="6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>
                  <a:off x="1775160" y="3162600"/>
                  <a:ext cx="11484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1728360" y="3269520"/>
                  <a:ext cx="4572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1693080" y="3224520"/>
                  <a:ext cx="3636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 flipV="1">
                  <a:off x="1673280" y="3178080"/>
                  <a:ext cx="1872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 flipV="1">
                  <a:off x="1873440" y="3144960"/>
                  <a:ext cx="1368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1838880" y="3106440"/>
                  <a:ext cx="16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1874160" y="3133800"/>
                  <a:ext cx="43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1855080" y="3118320"/>
                  <a:ext cx="864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1519200" y="2808360"/>
                <a:ext cx="897120" cy="60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1517760" y="4316400"/>
              <a:ext cx="896760" cy="603360"/>
              <a:chOff x="1517760" y="4316400"/>
              <a:chExt cx="896760" cy="603360"/>
            </a:xfrm>
          </p:grpSpPr>
          <p:sp>
            <p:nvSpPr>
              <p:cNvPr id="2079" name=""/>
              <p:cNvSpPr/>
              <p:nvPr/>
            </p:nvSpPr>
            <p:spPr>
              <a:xfrm>
                <a:off x="1633680" y="4385520"/>
                <a:ext cx="521640" cy="47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186280" y="45694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186280" y="48373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186280" y="45313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186280" y="44168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186280" y="47606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186280" y="46843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186280" y="44931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186280" y="47988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186280" y="46080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186280" y="44550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186280" y="43783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186280" y="47224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186280" y="464616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870200" y="4590720"/>
                <a:ext cx="5904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4" name=""/>
              <p:cNvGrpSpPr/>
              <p:nvPr/>
            </p:nvGrpSpPr>
            <p:grpSpPr>
              <a:xfrm>
                <a:off x="1809000" y="4399560"/>
                <a:ext cx="171000" cy="194040"/>
                <a:chOff x="1809000" y="4399560"/>
                <a:chExt cx="171000" cy="194040"/>
              </a:xfrm>
            </p:grpSpPr>
            <p:sp>
              <p:nvSpPr>
                <p:cNvPr id="2095" name=""/>
                <p:cNvSpPr/>
                <p:nvPr/>
              </p:nvSpPr>
              <p:spPr>
                <a:xfrm flipV="1">
                  <a:off x="1938960" y="4411080"/>
                  <a:ext cx="41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flipV="1">
                  <a:off x="1809000" y="4420080"/>
                  <a:ext cx="49320" cy="16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1811160" y="4402080"/>
                  <a:ext cx="53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1865160" y="4399560"/>
                  <a:ext cx="6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928520" y="4400280"/>
                  <a:ext cx="4860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56520" y="4581360"/>
                  <a:ext cx="273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H="1">
                  <a:off x="1913400" y="4577400"/>
                  <a:ext cx="2412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84240" y="4584600"/>
                  <a:ext cx="612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12680" y="4580280"/>
                  <a:ext cx="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4" name=""/>
              <p:cNvGrpSpPr/>
              <p:nvPr/>
            </p:nvGrpSpPr>
            <p:grpSpPr>
              <a:xfrm>
                <a:off x="1925280" y="4590360"/>
                <a:ext cx="203040" cy="180360"/>
                <a:chOff x="1925280" y="4590360"/>
                <a:chExt cx="203040" cy="180360"/>
              </a:xfrm>
            </p:grpSpPr>
            <p:sp>
              <p:nvSpPr>
                <p:cNvPr id="2105" name=""/>
                <p:cNvSpPr/>
                <p:nvPr/>
              </p:nvSpPr>
              <p:spPr>
                <a:xfrm>
                  <a:off x="1926720" y="4664160"/>
                  <a:ext cx="1443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49760" y="4590360"/>
                  <a:ext cx="1785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>
                  <a:off x="2124360" y="4619520"/>
                  <a:ext cx="288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H="1">
                  <a:off x="2103840" y="4673880"/>
                  <a:ext cx="198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H="1">
                  <a:off x="2074320" y="4730400"/>
                  <a:ext cx="27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>
                  <a:off x="1942920" y="4590720"/>
                  <a:ext cx="1224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1927800" y="4640760"/>
                  <a:ext cx="576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>
                  <a:off x="1931040" y="4613760"/>
                  <a:ext cx="10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H="1" flipV="1">
                  <a:off x="1925280" y="4635720"/>
                  <a:ext cx="97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4" name=""/>
              <p:cNvGrpSpPr/>
              <p:nvPr/>
            </p:nvGrpSpPr>
            <p:grpSpPr>
              <a:xfrm>
                <a:off x="1671480" y="4613400"/>
                <a:ext cx="216720" cy="196560"/>
                <a:chOff x="1671480" y="4613400"/>
                <a:chExt cx="216720" cy="196560"/>
              </a:xfrm>
            </p:grpSpPr>
            <p:sp>
              <p:nvSpPr>
                <p:cNvPr id="2115" name=""/>
                <p:cNvSpPr/>
                <p:nvPr/>
              </p:nvSpPr>
              <p:spPr>
                <a:xfrm flipH="1">
                  <a:off x="1671480" y="4613400"/>
                  <a:ext cx="165600" cy="6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>
                  <a:off x="1773360" y="4671000"/>
                  <a:ext cx="11484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 flipV="1">
                  <a:off x="1726560" y="4777920"/>
                  <a:ext cx="4572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 flipV="1">
                  <a:off x="1691280" y="4732920"/>
                  <a:ext cx="3636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H="1" flipV="1">
                  <a:off x="1671480" y="4686480"/>
                  <a:ext cx="1872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H="1" flipV="1">
                  <a:off x="1871640" y="4653360"/>
                  <a:ext cx="1368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1837080" y="4614840"/>
                  <a:ext cx="16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V="1">
                  <a:off x="1872360" y="4642200"/>
                  <a:ext cx="43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V="1">
                  <a:off x="1853280" y="4626720"/>
                  <a:ext cx="864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4" name=""/>
              <p:cNvSpPr/>
              <p:nvPr/>
            </p:nvSpPr>
            <p:spPr>
              <a:xfrm>
                <a:off x="1517760" y="4316400"/>
                <a:ext cx="89676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5" name=""/>
          <p:cNvGrpSpPr/>
          <p:nvPr/>
        </p:nvGrpSpPr>
        <p:grpSpPr>
          <a:xfrm>
            <a:off x="5608800" y="776160"/>
            <a:ext cx="2806560" cy="4044960"/>
            <a:chOff x="5608800" y="776160"/>
            <a:chExt cx="2806560" cy="4044960"/>
          </a:xfrm>
        </p:grpSpPr>
        <p:sp>
          <p:nvSpPr>
            <p:cNvPr id="2126" name=""/>
            <p:cNvSpPr/>
            <p:nvPr/>
          </p:nvSpPr>
          <p:spPr>
            <a:xfrm>
              <a:off x="7526520" y="92232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 flipV="1">
              <a:off x="7732800" y="9032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634800" y="77616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516800" y="122868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7520040" y="122688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520040" y="122220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964560" y="1033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811280" y="974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961320" y="996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526520" y="24303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 flipV="1">
              <a:off x="7732800" y="24112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634800" y="22842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516800" y="27367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7520040" y="273528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520040" y="27302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964560" y="254160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811280" y="24829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961320" y="250488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526520" y="394020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 flipV="1">
              <a:off x="7732800" y="3920760"/>
              <a:ext cx="7920" cy="2775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34800" y="379404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516800" y="424656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7520040" y="424476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520040" y="424008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64560" y="40510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11280" y="39924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61320" y="40147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6473520" y="12967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518600" y="12268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520040" y="2738520"/>
              <a:ext cx="171360" cy="51876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515360" y="42526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5640480" y="1152360"/>
              <a:ext cx="896760" cy="603360"/>
              <a:chOff x="5640480" y="1152360"/>
              <a:chExt cx="896760" cy="603360"/>
            </a:xfrm>
          </p:grpSpPr>
          <p:sp>
            <p:nvSpPr>
              <p:cNvPr id="2158" name=""/>
              <p:cNvSpPr/>
              <p:nvPr/>
            </p:nvSpPr>
            <p:spPr>
              <a:xfrm>
                <a:off x="5756400" y="1221480"/>
                <a:ext cx="521640" cy="47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309000" y="14054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09000" y="16732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09000" y="13672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09000" y="12528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09000" y="15966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309000" y="15202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309000" y="13291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309000" y="163476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309000" y="14439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309000" y="129096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309000" y="121428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309000" y="15584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309000" y="14821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992920" y="1426680"/>
                <a:ext cx="5904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3" name=""/>
              <p:cNvGrpSpPr/>
              <p:nvPr/>
            </p:nvGrpSpPr>
            <p:grpSpPr>
              <a:xfrm>
                <a:off x="5931720" y="1235520"/>
                <a:ext cx="171000" cy="194040"/>
                <a:chOff x="5931720" y="1235520"/>
                <a:chExt cx="171000" cy="194040"/>
              </a:xfrm>
            </p:grpSpPr>
            <p:sp>
              <p:nvSpPr>
                <p:cNvPr id="2174" name=""/>
                <p:cNvSpPr/>
                <p:nvPr/>
              </p:nvSpPr>
              <p:spPr>
                <a:xfrm flipV="1">
                  <a:off x="6061680" y="1247040"/>
                  <a:ext cx="41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H="1" flipV="1">
                  <a:off x="5931720" y="1256040"/>
                  <a:ext cx="49320" cy="16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V="1">
                  <a:off x="5933880" y="1238040"/>
                  <a:ext cx="53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V="1">
                  <a:off x="5987880" y="1235520"/>
                  <a:ext cx="6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6051240" y="1236240"/>
                  <a:ext cx="4860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979240" y="1417320"/>
                  <a:ext cx="273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H="1">
                  <a:off x="6036120" y="1413360"/>
                  <a:ext cx="2412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006960" y="1420560"/>
                  <a:ext cx="612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035400" y="1416240"/>
                  <a:ext cx="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6048000" y="1426320"/>
                <a:ext cx="203040" cy="180360"/>
                <a:chOff x="6048000" y="1426320"/>
                <a:chExt cx="203040" cy="18036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6049440" y="1500120"/>
                  <a:ext cx="1443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6072480" y="1426320"/>
                  <a:ext cx="1785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>
                  <a:off x="6247080" y="1455480"/>
                  <a:ext cx="288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>
                  <a:off x="6226560" y="1509840"/>
                  <a:ext cx="198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>
                  <a:off x="6197040" y="1566360"/>
                  <a:ext cx="27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>
                  <a:off x="6065640" y="1426680"/>
                  <a:ext cx="1224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6050520" y="1476720"/>
                  <a:ext cx="576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>
                  <a:off x="6053760" y="1449720"/>
                  <a:ext cx="10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flipV="1">
                  <a:off x="6048000" y="1471680"/>
                  <a:ext cx="97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5794200" y="1449360"/>
                <a:ext cx="216720" cy="196560"/>
                <a:chOff x="5794200" y="1449360"/>
                <a:chExt cx="216720" cy="196560"/>
              </a:xfrm>
            </p:grpSpPr>
            <p:sp>
              <p:nvSpPr>
                <p:cNvPr id="2194" name=""/>
                <p:cNvSpPr/>
                <p:nvPr/>
              </p:nvSpPr>
              <p:spPr>
                <a:xfrm flipH="1">
                  <a:off x="5794200" y="1449360"/>
                  <a:ext cx="165600" cy="6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>
                  <a:off x="5896080" y="1506960"/>
                  <a:ext cx="11484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flipV="1">
                  <a:off x="5849280" y="1613880"/>
                  <a:ext cx="4572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flipV="1">
                  <a:off x="5814000" y="1568880"/>
                  <a:ext cx="3636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flipV="1">
                  <a:off x="5794200" y="1522440"/>
                  <a:ext cx="1872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flipV="1">
                  <a:off x="5994360" y="1489320"/>
                  <a:ext cx="1368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959800" y="1450800"/>
                  <a:ext cx="16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V="1">
                  <a:off x="5995080" y="1478160"/>
                  <a:ext cx="43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V="1">
                  <a:off x="5976000" y="1462680"/>
                  <a:ext cx="864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"/>
              <p:cNvSpPr/>
              <p:nvPr/>
            </p:nvSpPr>
            <p:spPr>
              <a:xfrm>
                <a:off x="5640480" y="1152360"/>
                <a:ext cx="89676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4" name=""/>
            <p:cNvSpPr/>
            <p:nvPr/>
          </p:nvSpPr>
          <p:spPr>
            <a:xfrm flipH="1">
              <a:off x="6483240" y="282096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6470640" y="433224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6469200" y="167796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6443280" y="317664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6501960" y="4662360"/>
              <a:ext cx="962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"/>
            <p:cNvGrpSpPr/>
            <p:nvPr/>
          </p:nvGrpSpPr>
          <p:grpSpPr>
            <a:xfrm>
              <a:off x="5610240" y="2689200"/>
              <a:ext cx="897120" cy="603000"/>
              <a:chOff x="5610240" y="2689200"/>
              <a:chExt cx="897120" cy="603000"/>
            </a:xfrm>
          </p:grpSpPr>
          <p:sp>
            <p:nvSpPr>
              <p:cNvPr id="2210" name=""/>
              <p:cNvSpPr/>
              <p:nvPr/>
            </p:nvSpPr>
            <p:spPr>
              <a:xfrm>
                <a:off x="5726160" y="2758320"/>
                <a:ext cx="522000" cy="47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279120" y="29422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279120" y="32097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279120" y="29041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279120" y="27896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279120" y="31334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79120" y="30567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79120" y="28659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79120" y="31712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279120" y="29804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279120" y="28274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279120" y="27511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279120" y="30949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279120" y="30186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963040" y="2963520"/>
                <a:ext cx="5904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5" name=""/>
              <p:cNvGrpSpPr/>
              <p:nvPr/>
            </p:nvGrpSpPr>
            <p:grpSpPr>
              <a:xfrm>
                <a:off x="5901480" y="2772360"/>
                <a:ext cx="171000" cy="193680"/>
                <a:chOff x="5901480" y="2772360"/>
                <a:chExt cx="171000" cy="193680"/>
              </a:xfrm>
            </p:grpSpPr>
            <p:sp>
              <p:nvSpPr>
                <p:cNvPr id="2226" name=""/>
                <p:cNvSpPr/>
                <p:nvPr/>
              </p:nvSpPr>
              <p:spPr>
                <a:xfrm flipV="1">
                  <a:off x="6031440" y="2783880"/>
                  <a:ext cx="41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 flipV="1">
                  <a:off x="5901480" y="2793240"/>
                  <a:ext cx="4932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V="1">
                  <a:off x="5903640" y="2774880"/>
                  <a:ext cx="53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V="1">
                  <a:off x="5957640" y="2772360"/>
                  <a:ext cx="6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6021000" y="2773080"/>
                  <a:ext cx="4860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949000" y="2953800"/>
                  <a:ext cx="273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>
                  <a:off x="6005880" y="2949840"/>
                  <a:ext cx="2412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976720" y="2957040"/>
                  <a:ext cx="612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6005160" y="2952720"/>
                  <a:ext cx="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6017760" y="2962800"/>
                <a:ext cx="203040" cy="180360"/>
                <a:chOff x="6017760" y="2962800"/>
                <a:chExt cx="203040" cy="18036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6019200" y="3036600"/>
                  <a:ext cx="1443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6042240" y="2962800"/>
                  <a:ext cx="1785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>
                  <a:off x="6216840" y="2991960"/>
                  <a:ext cx="288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>
                  <a:off x="6196320" y="3046320"/>
                  <a:ext cx="198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>
                  <a:off x="6166800" y="3102840"/>
                  <a:ext cx="27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>
                  <a:off x="6035400" y="2963160"/>
                  <a:ext cx="1224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V="1">
                  <a:off x="6020280" y="3013200"/>
                  <a:ext cx="576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>
                  <a:off x="6023520" y="2986200"/>
                  <a:ext cx="10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flipV="1">
                  <a:off x="6017760" y="3008160"/>
                  <a:ext cx="97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5" name=""/>
              <p:cNvGrpSpPr/>
              <p:nvPr/>
            </p:nvGrpSpPr>
            <p:grpSpPr>
              <a:xfrm>
                <a:off x="5764320" y="2985840"/>
                <a:ext cx="216720" cy="196560"/>
                <a:chOff x="5764320" y="2985840"/>
                <a:chExt cx="216720" cy="196560"/>
              </a:xfrm>
            </p:grpSpPr>
            <p:sp>
              <p:nvSpPr>
                <p:cNvPr id="2246" name=""/>
                <p:cNvSpPr/>
                <p:nvPr/>
              </p:nvSpPr>
              <p:spPr>
                <a:xfrm flipH="1">
                  <a:off x="5764320" y="2985840"/>
                  <a:ext cx="165600" cy="6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>
                  <a:off x="5866200" y="3043440"/>
                  <a:ext cx="11484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flipV="1">
                  <a:off x="5819400" y="3150360"/>
                  <a:ext cx="4572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flipV="1">
                  <a:off x="5784120" y="3105360"/>
                  <a:ext cx="3636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flipV="1">
                  <a:off x="5764320" y="3058920"/>
                  <a:ext cx="1872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flipV="1">
                  <a:off x="5964480" y="3025800"/>
                  <a:ext cx="1368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929920" y="2987280"/>
                  <a:ext cx="16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V="1">
                  <a:off x="5965200" y="3014640"/>
                  <a:ext cx="43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V="1">
                  <a:off x="5946120" y="2999160"/>
                  <a:ext cx="864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5" name=""/>
              <p:cNvSpPr/>
              <p:nvPr/>
            </p:nvSpPr>
            <p:spPr>
              <a:xfrm>
                <a:off x="5610240" y="2689200"/>
                <a:ext cx="897120" cy="60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5608800" y="4197240"/>
              <a:ext cx="896760" cy="603360"/>
              <a:chOff x="5608800" y="4197240"/>
              <a:chExt cx="896760" cy="603360"/>
            </a:xfrm>
          </p:grpSpPr>
          <p:sp>
            <p:nvSpPr>
              <p:cNvPr id="2257" name=""/>
              <p:cNvSpPr/>
              <p:nvPr/>
            </p:nvSpPr>
            <p:spPr>
              <a:xfrm>
                <a:off x="5724720" y="4266360"/>
                <a:ext cx="521640" cy="47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277320" y="445032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77320" y="47181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277320" y="441216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277320" y="42976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277320" y="464148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277320" y="456516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277320" y="437400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277320" y="46796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277320" y="4488840"/>
                <a:ext cx="181440" cy="2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77320" y="433584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277320" y="425916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277320" y="460332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277320" y="4527000"/>
                <a:ext cx="181440" cy="2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961240" y="4471560"/>
                <a:ext cx="5904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2" name=""/>
              <p:cNvGrpSpPr/>
              <p:nvPr/>
            </p:nvGrpSpPr>
            <p:grpSpPr>
              <a:xfrm>
                <a:off x="5900040" y="4280400"/>
                <a:ext cx="171000" cy="194040"/>
                <a:chOff x="5900040" y="4280400"/>
                <a:chExt cx="171000" cy="194040"/>
              </a:xfrm>
            </p:grpSpPr>
            <p:sp>
              <p:nvSpPr>
                <p:cNvPr id="2273" name=""/>
                <p:cNvSpPr/>
                <p:nvPr/>
              </p:nvSpPr>
              <p:spPr>
                <a:xfrm flipV="1">
                  <a:off x="6030000" y="4291920"/>
                  <a:ext cx="41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 flipV="1">
                  <a:off x="5900040" y="4300920"/>
                  <a:ext cx="49320" cy="16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flipV="1">
                  <a:off x="5902200" y="4282920"/>
                  <a:ext cx="53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5956200" y="4280400"/>
                  <a:ext cx="6012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019560" y="4281120"/>
                  <a:ext cx="4860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947560" y="4462200"/>
                  <a:ext cx="2736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>
                  <a:off x="6004440" y="4458240"/>
                  <a:ext cx="2412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975280" y="4465440"/>
                  <a:ext cx="612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003720" y="4461120"/>
                  <a:ext cx="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2" name=""/>
              <p:cNvGrpSpPr/>
              <p:nvPr/>
            </p:nvGrpSpPr>
            <p:grpSpPr>
              <a:xfrm>
                <a:off x="6016320" y="4471200"/>
                <a:ext cx="203040" cy="180360"/>
                <a:chOff x="6016320" y="4471200"/>
                <a:chExt cx="203040" cy="180360"/>
              </a:xfrm>
            </p:grpSpPr>
            <p:sp>
              <p:nvSpPr>
                <p:cNvPr id="2283" name=""/>
                <p:cNvSpPr/>
                <p:nvPr/>
              </p:nvSpPr>
              <p:spPr>
                <a:xfrm>
                  <a:off x="6017760" y="4545000"/>
                  <a:ext cx="1443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6040800" y="4471200"/>
                  <a:ext cx="1785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H="1">
                  <a:off x="6215400" y="4500360"/>
                  <a:ext cx="2880" cy="5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H="1">
                  <a:off x="6194880" y="4554720"/>
                  <a:ext cx="198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H="1">
                  <a:off x="6165360" y="4611240"/>
                  <a:ext cx="27360" cy="3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H="1">
                  <a:off x="6033960" y="4471560"/>
                  <a:ext cx="1224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V="1">
                  <a:off x="6018840" y="4521600"/>
                  <a:ext cx="576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H="1">
                  <a:off x="6022080" y="4494600"/>
                  <a:ext cx="108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H="1" flipV="1">
                  <a:off x="6016320" y="4516560"/>
                  <a:ext cx="97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5762520" y="4494240"/>
                <a:ext cx="216720" cy="196560"/>
                <a:chOff x="5762520" y="4494240"/>
                <a:chExt cx="216720" cy="196560"/>
              </a:xfrm>
            </p:grpSpPr>
            <p:sp>
              <p:nvSpPr>
                <p:cNvPr id="2293" name=""/>
                <p:cNvSpPr/>
                <p:nvPr/>
              </p:nvSpPr>
              <p:spPr>
                <a:xfrm flipH="1">
                  <a:off x="5762520" y="4494240"/>
                  <a:ext cx="165600" cy="6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H="1">
                  <a:off x="5864400" y="4551840"/>
                  <a:ext cx="114840" cy="13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H="1" flipV="1">
                  <a:off x="5817600" y="4658760"/>
                  <a:ext cx="4572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H="1" flipV="1">
                  <a:off x="5782320" y="4613760"/>
                  <a:ext cx="3636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 flipV="1">
                  <a:off x="5762520" y="4567320"/>
                  <a:ext cx="18720" cy="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H="1" flipV="1">
                  <a:off x="5962680" y="4534200"/>
                  <a:ext cx="1368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928120" y="4495680"/>
                  <a:ext cx="16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V="1">
                  <a:off x="5963400" y="4523040"/>
                  <a:ext cx="43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V="1">
                  <a:off x="5944320" y="4507560"/>
                  <a:ext cx="864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2" name=""/>
              <p:cNvSpPr/>
              <p:nvPr/>
            </p:nvSpPr>
            <p:spPr>
              <a:xfrm>
                <a:off x="5608800" y="4197240"/>
                <a:ext cx="89676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3" name=""/>
          <p:cNvSpPr/>
          <p:nvPr/>
        </p:nvSpPr>
        <p:spPr>
          <a:xfrm>
            <a:off x="775080" y="2806560"/>
            <a:ext cx="654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727560" y="4297320"/>
            <a:ext cx="654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4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3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4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857840" y="1236600"/>
            <a:ext cx="637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874760" y="2747880"/>
            <a:ext cx="57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70440" y="4259160"/>
            <a:ext cx="637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2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8" name=""/>
          <p:cNvGraphicFramePr/>
          <p:nvPr/>
        </p:nvGraphicFramePr>
        <p:xfrm>
          <a:off x="4992840" y="5481720"/>
          <a:ext cx="3781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2840" y="5481720"/>
                    <a:ext cx="3781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/>
          <p:nvPr/>
        </p:nvSpPr>
        <p:spPr>
          <a:xfrm>
            <a:off x="-8280" y="0"/>
            <a:ext cx="66333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tónomo bomba calor aire agua en circuit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1" name=""/>
          <p:cNvGrpSpPr/>
          <p:nvPr/>
        </p:nvGrpSpPr>
        <p:grpSpPr>
          <a:xfrm>
            <a:off x="6124680" y="209520"/>
            <a:ext cx="2251080" cy="1027080"/>
            <a:chOff x="6124680" y="209520"/>
            <a:chExt cx="2251080" cy="1027080"/>
          </a:xfrm>
        </p:grpSpPr>
        <p:sp>
          <p:nvSpPr>
            <p:cNvPr id="2312" name=""/>
            <p:cNvSpPr/>
            <p:nvPr/>
          </p:nvSpPr>
          <p:spPr>
            <a:xfrm>
              <a:off x="7486920" y="35568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 flipV="1">
              <a:off x="7693200" y="33660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595200" y="20952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477200" y="66204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7480440" y="66024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480440" y="6555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924960" y="46656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771680" y="4078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921720" y="43020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6433920" y="73008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479000" y="66024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429600" y="111132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4" name=""/>
            <p:cNvGrpSpPr/>
            <p:nvPr/>
          </p:nvGrpSpPr>
          <p:grpSpPr>
            <a:xfrm>
              <a:off x="6124680" y="585720"/>
              <a:ext cx="668520" cy="603360"/>
              <a:chOff x="6124680" y="585720"/>
              <a:chExt cx="668520" cy="603360"/>
            </a:xfrm>
          </p:grpSpPr>
          <p:sp>
            <p:nvSpPr>
              <p:cNvPr id="2325" name=""/>
              <p:cNvSpPr/>
              <p:nvPr/>
            </p:nvSpPr>
            <p:spPr>
              <a:xfrm>
                <a:off x="6186600" y="83988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186600" y="11066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186600" y="80172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186600" y="6858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186600" y="10303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186600" y="95400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186600" y="7621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186600" y="10684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186600" y="87804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186600" y="7239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186600" y="64764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186600" y="9921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186600" y="91584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124680" y="585720"/>
                <a:ext cx="66852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419880" y="93024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6575400" y="93024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453360" y="930240"/>
                <a:ext cx="245880" cy="211320"/>
              </a:xfrm>
              <a:custGeom>
                <a:avLst/>
                <a:gdLst/>
                <a:ahLst/>
                <a:rect l="l" t="t" r="r" b="b"/>
                <a:pathLst>
                  <a:path w="220" h="208">
                    <a:moveTo>
                      <a:pt x="0" y="106"/>
                    </a:moveTo>
                    <a:lnTo>
                      <a:pt x="48" y="92"/>
                    </a:lnTo>
                    <a:lnTo>
                      <a:pt x="48" y="34"/>
                    </a:lnTo>
                    <a:lnTo>
                      <a:pt x="46" y="14"/>
                    </a:lnTo>
                    <a:lnTo>
                      <a:pt x="76" y="4"/>
                    </a:lnTo>
                    <a:lnTo>
                      <a:pt x="130" y="0"/>
                    </a:lnTo>
                    <a:lnTo>
                      <a:pt x="160" y="4"/>
                    </a:lnTo>
                    <a:lnTo>
                      <a:pt x="180" y="10"/>
                    </a:lnTo>
                    <a:lnTo>
                      <a:pt x="182" y="86"/>
                    </a:lnTo>
                    <a:lnTo>
                      <a:pt x="220" y="102"/>
                    </a:lnTo>
                    <a:lnTo>
                      <a:pt x="186" y="114"/>
                    </a:lnTo>
                    <a:lnTo>
                      <a:pt x="184" y="192"/>
                    </a:lnTo>
                    <a:lnTo>
                      <a:pt x="162" y="202"/>
                    </a:lnTo>
                    <a:lnTo>
                      <a:pt x="124" y="208"/>
                    </a:lnTo>
                    <a:lnTo>
                      <a:pt x="84" y="204"/>
                    </a:lnTo>
                    <a:lnTo>
                      <a:pt x="50" y="198"/>
                    </a:lnTo>
                    <a:lnTo>
                      <a:pt x="46" y="148"/>
                    </a:lnTo>
                    <a:lnTo>
                      <a:pt x="46" y="118"/>
                    </a:lnTo>
                    <a:lnTo>
                      <a:pt x="22" y="10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2" name=""/>
          <p:cNvGrpSpPr/>
          <p:nvPr/>
        </p:nvGrpSpPr>
        <p:grpSpPr>
          <a:xfrm>
            <a:off x="6124680" y="1290600"/>
            <a:ext cx="2251080" cy="1027080"/>
            <a:chOff x="6124680" y="1290600"/>
            <a:chExt cx="2251080" cy="1027080"/>
          </a:xfrm>
        </p:grpSpPr>
        <p:sp>
          <p:nvSpPr>
            <p:cNvPr id="2343" name=""/>
            <p:cNvSpPr/>
            <p:nvPr/>
          </p:nvSpPr>
          <p:spPr>
            <a:xfrm>
              <a:off x="7486920" y="14367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7693200" y="14176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595200" y="12906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77200" y="17431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7480440" y="17413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480440" y="17366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924960" y="15476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771680" y="14889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921720" y="15112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6433920" y="181116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479000" y="174132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6429600" y="219240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6124680" y="1666800"/>
              <a:ext cx="668520" cy="603360"/>
              <a:chOff x="6124680" y="1666800"/>
              <a:chExt cx="668520" cy="603360"/>
            </a:xfrm>
          </p:grpSpPr>
          <p:sp>
            <p:nvSpPr>
              <p:cNvPr id="2356" name=""/>
              <p:cNvSpPr/>
              <p:nvPr/>
            </p:nvSpPr>
            <p:spPr>
              <a:xfrm>
                <a:off x="6186600" y="192096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186600" y="21877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186600" y="188280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186600" y="17668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186600" y="21114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186600" y="203508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186600" y="18432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186600" y="21495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186600" y="195912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186600" y="18050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186600" y="172872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186600" y="20732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186600" y="199692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124680" y="1666800"/>
                <a:ext cx="66852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19880" y="201132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>
                <a:off x="6575400" y="201132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53360" y="2011320"/>
                <a:ext cx="245880" cy="211320"/>
              </a:xfrm>
              <a:custGeom>
                <a:avLst/>
                <a:gdLst/>
                <a:ahLst/>
                <a:rect l="l" t="t" r="r" b="b"/>
                <a:pathLst>
                  <a:path w="220" h="208">
                    <a:moveTo>
                      <a:pt x="0" y="106"/>
                    </a:moveTo>
                    <a:lnTo>
                      <a:pt x="48" y="92"/>
                    </a:lnTo>
                    <a:lnTo>
                      <a:pt x="48" y="34"/>
                    </a:lnTo>
                    <a:lnTo>
                      <a:pt x="46" y="14"/>
                    </a:lnTo>
                    <a:lnTo>
                      <a:pt x="76" y="4"/>
                    </a:lnTo>
                    <a:lnTo>
                      <a:pt x="130" y="0"/>
                    </a:lnTo>
                    <a:lnTo>
                      <a:pt x="160" y="4"/>
                    </a:lnTo>
                    <a:lnTo>
                      <a:pt x="180" y="10"/>
                    </a:lnTo>
                    <a:lnTo>
                      <a:pt x="182" y="86"/>
                    </a:lnTo>
                    <a:lnTo>
                      <a:pt x="220" y="102"/>
                    </a:lnTo>
                    <a:lnTo>
                      <a:pt x="186" y="114"/>
                    </a:lnTo>
                    <a:lnTo>
                      <a:pt x="184" y="192"/>
                    </a:lnTo>
                    <a:lnTo>
                      <a:pt x="162" y="202"/>
                    </a:lnTo>
                    <a:lnTo>
                      <a:pt x="124" y="208"/>
                    </a:lnTo>
                    <a:lnTo>
                      <a:pt x="84" y="204"/>
                    </a:lnTo>
                    <a:lnTo>
                      <a:pt x="50" y="198"/>
                    </a:lnTo>
                    <a:lnTo>
                      <a:pt x="46" y="148"/>
                    </a:lnTo>
                    <a:lnTo>
                      <a:pt x="46" y="118"/>
                    </a:lnTo>
                    <a:lnTo>
                      <a:pt x="22" y="10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3" name=""/>
          <p:cNvGrpSpPr/>
          <p:nvPr/>
        </p:nvGrpSpPr>
        <p:grpSpPr>
          <a:xfrm>
            <a:off x="6124680" y="2373480"/>
            <a:ext cx="2251080" cy="1027080"/>
            <a:chOff x="6124680" y="2373480"/>
            <a:chExt cx="2251080" cy="1027080"/>
          </a:xfrm>
        </p:grpSpPr>
        <p:sp>
          <p:nvSpPr>
            <p:cNvPr id="2374" name=""/>
            <p:cNvSpPr/>
            <p:nvPr/>
          </p:nvSpPr>
          <p:spPr>
            <a:xfrm>
              <a:off x="7486920" y="251964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7693200" y="250056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595200" y="237348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477200" y="282600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7480440" y="282420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480440" y="281952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924960" y="26305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771680" y="25718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21720" y="259416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6433920" y="289404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479000" y="282420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429600" y="327528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6" name=""/>
            <p:cNvGrpSpPr/>
            <p:nvPr/>
          </p:nvGrpSpPr>
          <p:grpSpPr>
            <a:xfrm>
              <a:off x="6124680" y="2749680"/>
              <a:ext cx="668520" cy="603360"/>
              <a:chOff x="6124680" y="2749680"/>
              <a:chExt cx="668520" cy="603360"/>
            </a:xfrm>
          </p:grpSpPr>
          <p:sp>
            <p:nvSpPr>
              <p:cNvPr id="2387" name=""/>
              <p:cNvSpPr/>
              <p:nvPr/>
            </p:nvSpPr>
            <p:spPr>
              <a:xfrm>
                <a:off x="6186600" y="300384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186600" y="32706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186600" y="296568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186600" y="28497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186600" y="31942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186600" y="311796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186600" y="29260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186600" y="32324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186600" y="304200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186600" y="28879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186600" y="281160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186600" y="31561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186600" y="307980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124680" y="2749680"/>
                <a:ext cx="66852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419880" y="309420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>
                <a:off x="6575400" y="309420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453360" y="3094200"/>
                <a:ext cx="245880" cy="211320"/>
              </a:xfrm>
              <a:custGeom>
                <a:avLst/>
                <a:gdLst/>
                <a:ahLst/>
                <a:rect l="l" t="t" r="r" b="b"/>
                <a:pathLst>
                  <a:path w="220" h="208">
                    <a:moveTo>
                      <a:pt x="0" y="106"/>
                    </a:moveTo>
                    <a:lnTo>
                      <a:pt x="48" y="92"/>
                    </a:lnTo>
                    <a:lnTo>
                      <a:pt x="48" y="34"/>
                    </a:lnTo>
                    <a:lnTo>
                      <a:pt x="46" y="14"/>
                    </a:lnTo>
                    <a:lnTo>
                      <a:pt x="76" y="4"/>
                    </a:lnTo>
                    <a:lnTo>
                      <a:pt x="130" y="0"/>
                    </a:lnTo>
                    <a:lnTo>
                      <a:pt x="160" y="4"/>
                    </a:lnTo>
                    <a:lnTo>
                      <a:pt x="180" y="10"/>
                    </a:lnTo>
                    <a:lnTo>
                      <a:pt x="182" y="86"/>
                    </a:lnTo>
                    <a:lnTo>
                      <a:pt x="220" y="102"/>
                    </a:lnTo>
                    <a:lnTo>
                      <a:pt x="186" y="114"/>
                    </a:lnTo>
                    <a:lnTo>
                      <a:pt x="184" y="192"/>
                    </a:lnTo>
                    <a:lnTo>
                      <a:pt x="162" y="202"/>
                    </a:lnTo>
                    <a:lnTo>
                      <a:pt x="124" y="208"/>
                    </a:lnTo>
                    <a:lnTo>
                      <a:pt x="84" y="204"/>
                    </a:lnTo>
                    <a:lnTo>
                      <a:pt x="50" y="198"/>
                    </a:lnTo>
                    <a:lnTo>
                      <a:pt x="46" y="148"/>
                    </a:lnTo>
                    <a:lnTo>
                      <a:pt x="46" y="118"/>
                    </a:lnTo>
                    <a:lnTo>
                      <a:pt x="22" y="10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4" name=""/>
          <p:cNvGrpSpPr/>
          <p:nvPr/>
        </p:nvGrpSpPr>
        <p:grpSpPr>
          <a:xfrm>
            <a:off x="6124680" y="3454560"/>
            <a:ext cx="2251080" cy="1027080"/>
            <a:chOff x="6124680" y="3454560"/>
            <a:chExt cx="2251080" cy="1027080"/>
          </a:xfrm>
        </p:grpSpPr>
        <p:sp>
          <p:nvSpPr>
            <p:cNvPr id="2405" name=""/>
            <p:cNvSpPr/>
            <p:nvPr/>
          </p:nvSpPr>
          <p:spPr>
            <a:xfrm>
              <a:off x="7486920" y="360072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 flipV="1">
              <a:off x="7693200" y="35816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595200" y="345456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77200" y="390708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7480440" y="390528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80440" y="390060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924960" y="37116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771680" y="36529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921720" y="367524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6433920" y="397512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479000" y="390528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6429600" y="435636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7" name=""/>
            <p:cNvGrpSpPr/>
            <p:nvPr/>
          </p:nvGrpSpPr>
          <p:grpSpPr>
            <a:xfrm>
              <a:off x="6124680" y="3830760"/>
              <a:ext cx="668520" cy="603360"/>
              <a:chOff x="6124680" y="3830760"/>
              <a:chExt cx="668520" cy="603360"/>
            </a:xfrm>
          </p:grpSpPr>
          <p:sp>
            <p:nvSpPr>
              <p:cNvPr id="2418" name=""/>
              <p:cNvSpPr/>
              <p:nvPr/>
            </p:nvSpPr>
            <p:spPr>
              <a:xfrm>
                <a:off x="6186600" y="408492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186600" y="43516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186600" y="404676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186600" y="39308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186600" y="42753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86600" y="419904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186600" y="40071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186600" y="43135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186600" y="412308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186600" y="39690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186600" y="389268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86600" y="42372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186600" y="416088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124680" y="3830760"/>
                <a:ext cx="66852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419880" y="417528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6575400" y="417528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453360" y="4175280"/>
                <a:ext cx="245880" cy="211320"/>
              </a:xfrm>
              <a:custGeom>
                <a:avLst/>
                <a:gdLst/>
                <a:ahLst/>
                <a:rect l="l" t="t" r="r" b="b"/>
                <a:pathLst>
                  <a:path w="220" h="208">
                    <a:moveTo>
                      <a:pt x="0" y="106"/>
                    </a:moveTo>
                    <a:lnTo>
                      <a:pt x="48" y="92"/>
                    </a:lnTo>
                    <a:lnTo>
                      <a:pt x="48" y="34"/>
                    </a:lnTo>
                    <a:lnTo>
                      <a:pt x="46" y="14"/>
                    </a:lnTo>
                    <a:lnTo>
                      <a:pt x="76" y="4"/>
                    </a:lnTo>
                    <a:lnTo>
                      <a:pt x="130" y="0"/>
                    </a:lnTo>
                    <a:lnTo>
                      <a:pt x="160" y="4"/>
                    </a:lnTo>
                    <a:lnTo>
                      <a:pt x="180" y="10"/>
                    </a:lnTo>
                    <a:lnTo>
                      <a:pt x="182" y="86"/>
                    </a:lnTo>
                    <a:lnTo>
                      <a:pt x="220" y="102"/>
                    </a:lnTo>
                    <a:lnTo>
                      <a:pt x="186" y="114"/>
                    </a:lnTo>
                    <a:lnTo>
                      <a:pt x="184" y="192"/>
                    </a:lnTo>
                    <a:lnTo>
                      <a:pt x="162" y="202"/>
                    </a:lnTo>
                    <a:lnTo>
                      <a:pt x="124" y="208"/>
                    </a:lnTo>
                    <a:lnTo>
                      <a:pt x="84" y="204"/>
                    </a:lnTo>
                    <a:lnTo>
                      <a:pt x="50" y="198"/>
                    </a:lnTo>
                    <a:lnTo>
                      <a:pt x="46" y="148"/>
                    </a:lnTo>
                    <a:lnTo>
                      <a:pt x="46" y="118"/>
                    </a:lnTo>
                    <a:lnTo>
                      <a:pt x="22" y="10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5" name=""/>
          <p:cNvGrpSpPr/>
          <p:nvPr/>
        </p:nvGrpSpPr>
        <p:grpSpPr>
          <a:xfrm>
            <a:off x="6124680" y="4537080"/>
            <a:ext cx="2251080" cy="1027080"/>
            <a:chOff x="6124680" y="4537080"/>
            <a:chExt cx="2251080" cy="1027080"/>
          </a:xfrm>
        </p:grpSpPr>
        <p:sp>
          <p:nvSpPr>
            <p:cNvPr id="2436" name=""/>
            <p:cNvSpPr/>
            <p:nvPr/>
          </p:nvSpPr>
          <p:spPr>
            <a:xfrm>
              <a:off x="7486920" y="468324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 flipV="1">
              <a:off x="7693200" y="466416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595200" y="453708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477200" y="498960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7480440" y="498780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480440" y="498312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924960" y="4794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771680" y="4735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1720" y="475776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6433920" y="505764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79000" y="498780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6429600" y="543888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8" name=""/>
            <p:cNvGrpSpPr/>
            <p:nvPr/>
          </p:nvGrpSpPr>
          <p:grpSpPr>
            <a:xfrm>
              <a:off x="6124680" y="4913280"/>
              <a:ext cx="668520" cy="603360"/>
              <a:chOff x="6124680" y="4913280"/>
              <a:chExt cx="668520" cy="603360"/>
            </a:xfrm>
          </p:grpSpPr>
          <p:sp>
            <p:nvSpPr>
              <p:cNvPr id="2449" name=""/>
              <p:cNvSpPr/>
              <p:nvPr/>
            </p:nvSpPr>
            <p:spPr>
              <a:xfrm>
                <a:off x="6186600" y="516744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186600" y="54342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186600" y="512928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186600" y="50133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186600" y="53578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186600" y="528156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86600" y="50896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186600" y="53960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186600" y="520560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186600" y="50515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186600" y="497520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186600" y="53197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186600" y="524340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124680" y="4913280"/>
                <a:ext cx="66852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419880" y="525780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>
                <a:off x="6575400" y="525780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453360" y="5257800"/>
                <a:ext cx="245880" cy="211320"/>
              </a:xfrm>
              <a:custGeom>
                <a:avLst/>
                <a:gdLst/>
                <a:ahLst/>
                <a:rect l="l" t="t" r="r" b="b"/>
                <a:pathLst>
                  <a:path w="220" h="208">
                    <a:moveTo>
                      <a:pt x="0" y="106"/>
                    </a:moveTo>
                    <a:lnTo>
                      <a:pt x="48" y="92"/>
                    </a:lnTo>
                    <a:lnTo>
                      <a:pt x="48" y="34"/>
                    </a:lnTo>
                    <a:lnTo>
                      <a:pt x="46" y="14"/>
                    </a:lnTo>
                    <a:lnTo>
                      <a:pt x="76" y="4"/>
                    </a:lnTo>
                    <a:lnTo>
                      <a:pt x="130" y="0"/>
                    </a:lnTo>
                    <a:lnTo>
                      <a:pt x="160" y="4"/>
                    </a:lnTo>
                    <a:lnTo>
                      <a:pt x="180" y="10"/>
                    </a:lnTo>
                    <a:lnTo>
                      <a:pt x="182" y="86"/>
                    </a:lnTo>
                    <a:lnTo>
                      <a:pt x="220" y="102"/>
                    </a:lnTo>
                    <a:lnTo>
                      <a:pt x="186" y="114"/>
                    </a:lnTo>
                    <a:lnTo>
                      <a:pt x="184" y="192"/>
                    </a:lnTo>
                    <a:lnTo>
                      <a:pt x="162" y="202"/>
                    </a:lnTo>
                    <a:lnTo>
                      <a:pt x="124" y="208"/>
                    </a:lnTo>
                    <a:lnTo>
                      <a:pt x="84" y="204"/>
                    </a:lnTo>
                    <a:lnTo>
                      <a:pt x="50" y="198"/>
                    </a:lnTo>
                    <a:lnTo>
                      <a:pt x="46" y="148"/>
                    </a:lnTo>
                    <a:lnTo>
                      <a:pt x="46" y="118"/>
                    </a:lnTo>
                    <a:lnTo>
                      <a:pt x="22" y="10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6" name=""/>
          <p:cNvGrpSpPr/>
          <p:nvPr/>
        </p:nvGrpSpPr>
        <p:grpSpPr>
          <a:xfrm>
            <a:off x="6124680" y="5619600"/>
            <a:ext cx="2251080" cy="1027080"/>
            <a:chOff x="6124680" y="5619600"/>
            <a:chExt cx="2251080" cy="1027080"/>
          </a:xfrm>
        </p:grpSpPr>
        <p:sp>
          <p:nvSpPr>
            <p:cNvPr id="2467" name=""/>
            <p:cNvSpPr/>
            <p:nvPr/>
          </p:nvSpPr>
          <p:spPr>
            <a:xfrm>
              <a:off x="7486920" y="5765760"/>
              <a:ext cx="2109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 flipV="1">
              <a:off x="7693200" y="57466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5200" y="561960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477200" y="6072120"/>
              <a:ext cx="190440" cy="520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7480440" y="6070320"/>
              <a:ext cx="1810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480440" y="606564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24960" y="58766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771680" y="58179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21720" y="58402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433920" y="614016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479000" y="6070320"/>
              <a:ext cx="171360" cy="5191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6429600" y="6521400"/>
              <a:ext cx="10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9" name=""/>
            <p:cNvGrpSpPr/>
            <p:nvPr/>
          </p:nvGrpSpPr>
          <p:grpSpPr>
            <a:xfrm>
              <a:off x="6124680" y="5995800"/>
              <a:ext cx="668520" cy="603360"/>
              <a:chOff x="6124680" y="5995800"/>
              <a:chExt cx="668520" cy="603360"/>
            </a:xfrm>
          </p:grpSpPr>
          <p:sp>
            <p:nvSpPr>
              <p:cNvPr id="2480" name=""/>
              <p:cNvSpPr/>
              <p:nvPr/>
            </p:nvSpPr>
            <p:spPr>
              <a:xfrm>
                <a:off x="6186600" y="624996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186600" y="651672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186600" y="621180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86600" y="609588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186600" y="64404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86600" y="636408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86600" y="617220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86600" y="647856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186600" y="628812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86600" y="61340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186600" y="6057720"/>
                <a:ext cx="182520" cy="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86600" y="6402240"/>
                <a:ext cx="182520" cy="2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86600" y="6325920"/>
                <a:ext cx="182520" cy="27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124680" y="5995800"/>
                <a:ext cx="668520" cy="603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19880" y="634032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6575400" y="6340320"/>
                <a:ext cx="168480" cy="212760"/>
              </a:xfrm>
              <a:custGeom>
                <a:avLst/>
                <a:gdLst>
                  <a:gd name="textAreaLeft" fmla="*/ 107640 w 168480"/>
                  <a:gd name="textAreaRight" fmla="*/ 168840 w 168480"/>
                  <a:gd name="textAreaTop" fmla="*/ 5400 h 212760"/>
                  <a:gd name="textAreaBottom" fmla="*/ 2073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453360" y="6340320"/>
                <a:ext cx="245880" cy="211320"/>
              </a:xfrm>
              <a:custGeom>
                <a:avLst/>
                <a:gdLst/>
                <a:ahLst/>
                <a:rect l="l" t="t" r="r" b="b"/>
                <a:pathLst>
                  <a:path w="220" h="208">
                    <a:moveTo>
                      <a:pt x="0" y="106"/>
                    </a:moveTo>
                    <a:lnTo>
                      <a:pt x="48" y="92"/>
                    </a:lnTo>
                    <a:lnTo>
                      <a:pt x="48" y="34"/>
                    </a:lnTo>
                    <a:lnTo>
                      <a:pt x="46" y="14"/>
                    </a:lnTo>
                    <a:lnTo>
                      <a:pt x="76" y="4"/>
                    </a:lnTo>
                    <a:lnTo>
                      <a:pt x="130" y="0"/>
                    </a:lnTo>
                    <a:lnTo>
                      <a:pt x="160" y="4"/>
                    </a:lnTo>
                    <a:lnTo>
                      <a:pt x="180" y="10"/>
                    </a:lnTo>
                    <a:lnTo>
                      <a:pt x="182" y="86"/>
                    </a:lnTo>
                    <a:lnTo>
                      <a:pt x="220" y="102"/>
                    </a:lnTo>
                    <a:lnTo>
                      <a:pt x="186" y="114"/>
                    </a:lnTo>
                    <a:lnTo>
                      <a:pt x="184" y="192"/>
                    </a:lnTo>
                    <a:lnTo>
                      <a:pt x="162" y="202"/>
                    </a:lnTo>
                    <a:lnTo>
                      <a:pt x="124" y="208"/>
                    </a:lnTo>
                    <a:lnTo>
                      <a:pt x="84" y="204"/>
                    </a:lnTo>
                    <a:lnTo>
                      <a:pt x="50" y="198"/>
                    </a:lnTo>
                    <a:lnTo>
                      <a:pt x="46" y="148"/>
                    </a:lnTo>
                    <a:lnTo>
                      <a:pt x="46" y="118"/>
                    </a:lnTo>
                    <a:lnTo>
                      <a:pt x="22" y="104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7" name=""/>
          <p:cNvSpPr/>
          <p:nvPr/>
        </p:nvSpPr>
        <p:spPr>
          <a:xfrm>
            <a:off x="2987640" y="1503360"/>
            <a:ext cx="558720" cy="596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4719600" y="639720"/>
            <a:ext cx="174600" cy="127080"/>
            <a:chOff x="4719600" y="639720"/>
            <a:chExt cx="174600" cy="127080"/>
          </a:xfrm>
        </p:grpSpPr>
        <p:sp>
          <p:nvSpPr>
            <p:cNvPr id="2499" name=""/>
            <p:cNvSpPr/>
            <p:nvPr/>
          </p:nvSpPr>
          <p:spPr>
            <a:xfrm>
              <a:off x="4767120" y="63972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719600" y="63972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764240" y="64620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772160" y="66996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4791960" y="66204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2245320" y="15019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ld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567600" y="33624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874960" y="3684600"/>
            <a:ext cx="693720" cy="550800"/>
            <a:chOff x="2874960" y="3684600"/>
            <a:chExt cx="693720" cy="550800"/>
          </a:xfrm>
        </p:grpSpPr>
        <p:sp>
          <p:nvSpPr>
            <p:cNvPr id="2507" name=""/>
            <p:cNvSpPr/>
            <p:nvPr/>
          </p:nvSpPr>
          <p:spPr>
            <a:xfrm>
              <a:off x="2874960" y="3828960"/>
              <a:ext cx="693720" cy="406440"/>
            </a:xfrm>
            <a:custGeom>
              <a:avLst/>
              <a:gdLst>
                <a:gd name="textAreaLeft" fmla="*/ 152280 w 693720"/>
                <a:gd name="textAreaRight" fmla="*/ 541440 w 693720"/>
                <a:gd name="textAreaTop" fmla="*/ 89280 h 406440"/>
                <a:gd name="textAreaBottom" fmla="*/ 317160 h 40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006720" y="369072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322800" y="369072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079800" y="3684600"/>
              <a:ext cx="29844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081600" y="3692520"/>
              <a:ext cx="2984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3083040" y="3688920"/>
              <a:ext cx="3002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3" name=""/>
          <p:cNvSpPr/>
          <p:nvPr/>
        </p:nvSpPr>
        <p:spPr>
          <a:xfrm>
            <a:off x="2327040" y="17794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3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597840" y="360216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25,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551480" y="79380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18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689440" y="1114560"/>
            <a:ext cx="0" cy="539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321160" y="657360"/>
            <a:ext cx="3240" cy="542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H="1">
            <a:off x="4269960" y="6502320"/>
            <a:ext cx="19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5765400" y="607680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5320800" y="608004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5692680" y="5448240"/>
            <a:ext cx="4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5772240" y="498780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5330880" y="499104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5695560" y="436248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5758920" y="390852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5327640" y="390852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H="1">
            <a:off x="5695560" y="328932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5765400" y="282564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5330880" y="282888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5695560" y="220356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5765400" y="174636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330880" y="174312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5689440" y="1120680"/>
            <a:ext cx="4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4289040" y="660240"/>
            <a:ext cx="18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4269960" y="663480"/>
            <a:ext cx="4680" cy="583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6" name=""/>
          <p:cNvGrpSpPr/>
          <p:nvPr/>
        </p:nvGrpSpPr>
        <p:grpSpPr>
          <a:xfrm>
            <a:off x="3792600" y="1617840"/>
            <a:ext cx="174600" cy="126720"/>
            <a:chOff x="3792600" y="1617840"/>
            <a:chExt cx="174600" cy="126720"/>
          </a:xfrm>
        </p:grpSpPr>
        <p:sp>
          <p:nvSpPr>
            <p:cNvPr id="2537" name=""/>
            <p:cNvSpPr/>
            <p:nvPr/>
          </p:nvSpPr>
          <p:spPr>
            <a:xfrm>
              <a:off x="3840120" y="1617840"/>
              <a:ext cx="12708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792600" y="1617840"/>
              <a:ext cx="103320" cy="5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837240" y="1623960"/>
              <a:ext cx="7272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845160" y="1647720"/>
              <a:ext cx="7308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H="1">
              <a:off x="3864960" y="1639800"/>
              <a:ext cx="73080" cy="7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2" name=""/>
          <p:cNvSpPr/>
          <p:nvPr/>
        </p:nvSpPr>
        <p:spPr>
          <a:xfrm flipH="1">
            <a:off x="3377880" y="165096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365640" y="165096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365640" y="245124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3767040" y="3903840"/>
            <a:ext cx="174600" cy="126720"/>
            <a:chOff x="3767040" y="3903840"/>
            <a:chExt cx="174600" cy="126720"/>
          </a:xfrm>
        </p:grpSpPr>
        <p:sp>
          <p:nvSpPr>
            <p:cNvPr id="2546" name=""/>
            <p:cNvSpPr/>
            <p:nvPr/>
          </p:nvSpPr>
          <p:spPr>
            <a:xfrm>
              <a:off x="3814560" y="3903840"/>
              <a:ext cx="12708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767040" y="3903840"/>
              <a:ext cx="103320" cy="5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811680" y="3909960"/>
              <a:ext cx="7272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19600" y="3933720"/>
              <a:ext cx="7308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H="1">
              <a:off x="3839400" y="3925800"/>
              <a:ext cx="73080" cy="7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1" name=""/>
          <p:cNvSpPr/>
          <p:nvPr/>
        </p:nvSpPr>
        <p:spPr>
          <a:xfrm flipH="1">
            <a:off x="3352680" y="3936960"/>
            <a:ext cx="9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352680" y="393696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352680" y="4635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643560" y="174780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18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640320" y="405936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18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743200" y="396720"/>
            <a:ext cx="198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Bomba de c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n circuito cer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7" name=""/>
          <p:cNvGraphicFramePr/>
          <p:nvPr/>
        </p:nvGraphicFramePr>
        <p:xfrm>
          <a:off x="0" y="4389480"/>
          <a:ext cx="3305160" cy="11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89480"/>
                    <a:ext cx="33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9" name=""/>
          <p:cNvGraphicFramePr/>
          <p:nvPr/>
        </p:nvGraphicFramePr>
        <p:xfrm>
          <a:off x="0" y="5684760"/>
          <a:ext cx="3781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84760"/>
                    <a:ext cx="3781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1" name=""/>
          <p:cNvSpPr/>
          <p:nvPr/>
        </p:nvSpPr>
        <p:spPr>
          <a:xfrm>
            <a:off x="2260080" y="338760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290680" y="36273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20" y="0"/>
            <a:ext cx="25369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rden de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0760" y="773280"/>
            <a:ext cx="639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encia frigorífica total:             Residencial: 100 W/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rciario:   200 W/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encia frigorífica sensible:       Residencial: 75 W/m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rciario:   150 W/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encia calorífica: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Residencial: 100 W/m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rciario:   100 W/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400" y="2055960"/>
            <a:ext cx="906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imp/Tret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alto temperatur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uda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alto 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gua frí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12 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5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200 l/h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5 m.c.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gua caliente radiad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60 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20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50 l/h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5 m.c.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gua caliente fan-coi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45 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5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200 l/h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5 m.c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gua condensación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5/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30 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5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1,4 x 200 l/h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5 m.c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8120" y="3541680"/>
            <a:ext cx="863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imp/Tloca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alto temperatur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uda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Potencia venti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ire fri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4/24 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0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200 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0,05 k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ire caliente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2/22 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0º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200 m3/h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x 0,05 k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31680" y="159876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 = Potencia total (frigorífica o calorífica) (k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8480" y="4811760"/>
            <a:ext cx="855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udal Aire ventilación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Residencial (1 renov/h):   Sup x 3 (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h)     Terciario (50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h persona):  Sup x 10 (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/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93680" y="4341960"/>
            <a:ext cx="21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up = Superficie local (m</a:t>
            </a:r>
            <a:r>
              <a:rPr b="0" lang="es-E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307120"/>
            <a:ext cx="56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quipo autónomo compresión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ER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ndensado por aire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ndensado por agu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,5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7560" y="6229440"/>
            <a:ext cx="74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tencia torre refrigeración       Cercanía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4,5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ºC      Th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25,5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ºC             Potencia (kW)     1,4 x Pot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07880" y="-395280"/>
            <a:ext cx="77515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40320" y="558720"/>
          <a:ext cx="6311880" cy="2349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0320" y="558720"/>
                    <a:ext cx="631188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429000" y="3003480"/>
            <a:ext cx="2629080" cy="197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286680" y="3016080"/>
            <a:ext cx="285732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90440" y="4992840"/>
          <a:ext cx="8761320" cy="18651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440" y="4992840"/>
                    <a:ext cx="876132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H="1">
            <a:off x="5165640" y="20750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91920" y="108900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72080" y="205416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80000" y="303372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73520" y="399420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772080" y="497376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84680" y="594360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63840" y="3044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76440" y="4010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70320" y="4979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73560" y="595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532200" y="1060560"/>
            <a:ext cx="174600" cy="126720"/>
            <a:chOff x="6532200" y="1060560"/>
            <a:chExt cx="174600" cy="126720"/>
          </a:xfrm>
        </p:grpSpPr>
        <p:sp>
          <p:nvSpPr>
            <p:cNvPr id="72" name=""/>
            <p:cNvSpPr/>
            <p:nvPr/>
          </p:nvSpPr>
          <p:spPr>
            <a:xfrm flipH="1">
              <a:off x="6531840" y="1060560"/>
              <a:ext cx="12708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603120" y="1060560"/>
              <a:ext cx="103320" cy="5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589440" y="1066680"/>
              <a:ext cx="7272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580800" y="1090440"/>
              <a:ext cx="7308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560280" y="1082520"/>
              <a:ext cx="73080" cy="7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797520" y="3052800"/>
            <a:ext cx="559080" cy="596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905520" y="1120320"/>
            <a:ext cx="0" cy="51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564320" y="4284720"/>
            <a:ext cx="174600" cy="127080"/>
            <a:chOff x="7564320" y="4284720"/>
            <a:chExt cx="174600" cy="127080"/>
          </a:xfrm>
        </p:grpSpPr>
        <p:sp>
          <p:nvSpPr>
            <p:cNvPr id="80" name=""/>
            <p:cNvSpPr/>
            <p:nvPr/>
          </p:nvSpPr>
          <p:spPr>
            <a:xfrm>
              <a:off x="7611840" y="428472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64320" y="428472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08960" y="429120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16880" y="431496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636680" y="430704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 flipH="1">
            <a:off x="2065320" y="2781360"/>
            <a:ext cx="558720" cy="596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3200" y="1058760"/>
            <a:ext cx="174600" cy="127080"/>
            <a:chOff x="2743200" y="1058760"/>
            <a:chExt cx="174600" cy="127080"/>
          </a:xfrm>
        </p:grpSpPr>
        <p:sp>
          <p:nvSpPr>
            <p:cNvPr id="87" name=""/>
            <p:cNvSpPr/>
            <p:nvPr/>
          </p:nvSpPr>
          <p:spPr>
            <a:xfrm>
              <a:off x="2790720" y="105876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105876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87840" y="106524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95760" y="108900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6280" y="108108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156280" y="1111320"/>
            <a:ext cx="17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94600" y="1106640"/>
            <a:ext cx="0" cy="48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823000" y="1417320"/>
            <a:ext cx="0" cy="485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19480" y="1089000"/>
            <a:ext cx="0" cy="484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5040" y="0"/>
            <a:ext cx="50317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Ventiloconvectores (Fan-coil) a 4 tu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840" y="2530440"/>
            <a:ext cx="99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nfri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 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66560" y="4054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10160" y="1411200"/>
            <a:ext cx="0" cy="48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3240" y="700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primario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2440" y="71280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primario 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20440" y="442584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Cond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45360" y="251316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ld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34360" y="514440"/>
            <a:ext cx="1780560" cy="1027080"/>
            <a:chOff x="3834360" y="514440"/>
            <a:chExt cx="1780560" cy="1027080"/>
          </a:xfrm>
        </p:grpSpPr>
        <p:sp>
          <p:nvSpPr>
            <p:cNvPr id="105" name=""/>
            <p:cNvSpPr/>
            <p:nvPr/>
          </p:nvSpPr>
          <p:spPr>
            <a:xfrm>
              <a:off x="4725720" y="660240"/>
              <a:ext cx="2113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932360" y="64116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4360" y="51444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71960" y="965160"/>
              <a:ext cx="19044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1320" y="969840"/>
              <a:ext cx="1666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6360" y="96660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719600" y="965160"/>
              <a:ext cx="18072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19600" y="96048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65800" y="117468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62200" y="115884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63760" y="771480"/>
              <a:ext cx="145116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89120" y="1003320"/>
              <a:ext cx="165240" cy="174600"/>
              <a:chOff x="5289120" y="1003320"/>
              <a:chExt cx="165240" cy="174600"/>
            </a:xfrm>
          </p:grpSpPr>
          <p:sp>
            <p:nvSpPr>
              <p:cNvPr id="117" name=""/>
              <p:cNvSpPr/>
              <p:nvPr/>
            </p:nvSpPr>
            <p:spPr>
              <a:xfrm>
                <a:off x="5330520" y="10890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5365440" y="10569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rot="5400000">
                <a:off x="5288760" y="10569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22600" y="100332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373360" y="104472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373280" y="987480"/>
              <a:ext cx="165240" cy="174600"/>
              <a:chOff x="4373280" y="987480"/>
              <a:chExt cx="165240" cy="17460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4407840" y="10731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4372920" y="104112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4449600" y="104112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397040" y="98748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4280" y="102888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010840" y="712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60880" y="735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34360" y="1487520"/>
            <a:ext cx="1780560" cy="1027080"/>
            <a:chOff x="3834360" y="1487520"/>
            <a:chExt cx="1780560" cy="1027080"/>
          </a:xfrm>
        </p:grpSpPr>
        <p:sp>
          <p:nvSpPr>
            <p:cNvPr id="131" name=""/>
            <p:cNvSpPr/>
            <p:nvPr/>
          </p:nvSpPr>
          <p:spPr>
            <a:xfrm>
              <a:off x="4725720" y="1633320"/>
              <a:ext cx="2113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932360" y="16142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34360" y="148752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71960" y="1938240"/>
              <a:ext cx="19044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1320" y="1942920"/>
              <a:ext cx="1666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6360" y="193968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719600" y="1938240"/>
              <a:ext cx="18072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9600" y="19335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5800" y="214776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62200" y="213192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63760" y="1744560"/>
              <a:ext cx="145116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289120" y="1976400"/>
              <a:ext cx="165240" cy="174600"/>
              <a:chOff x="5289120" y="1976400"/>
              <a:chExt cx="165240" cy="174600"/>
            </a:xfrm>
          </p:grpSpPr>
          <p:sp>
            <p:nvSpPr>
              <p:cNvPr id="143" name=""/>
              <p:cNvSpPr/>
              <p:nvPr/>
            </p:nvSpPr>
            <p:spPr>
              <a:xfrm>
                <a:off x="5330520" y="206208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00000">
                <a:off x="5365440" y="20300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5400000">
                <a:off x="5288760" y="20300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22600" y="197640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373360" y="201780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373280" y="1960560"/>
              <a:ext cx="165240" cy="174600"/>
              <a:chOff x="4373280" y="1960560"/>
              <a:chExt cx="165240" cy="17460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4407840" y="20462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rot="5400000">
                <a:off x="4372920" y="20142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00000">
                <a:off x="4449600" y="20142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4397040" y="196056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454280" y="200196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010840" y="16858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60880" y="17082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4360" y="2459160"/>
            <a:ext cx="1780560" cy="1027080"/>
            <a:chOff x="3834360" y="2459160"/>
            <a:chExt cx="1780560" cy="1027080"/>
          </a:xfrm>
        </p:grpSpPr>
        <p:sp>
          <p:nvSpPr>
            <p:cNvPr id="157" name=""/>
            <p:cNvSpPr/>
            <p:nvPr/>
          </p:nvSpPr>
          <p:spPr>
            <a:xfrm>
              <a:off x="4725720" y="2604960"/>
              <a:ext cx="2113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932360" y="258588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34360" y="245916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71960" y="2909880"/>
              <a:ext cx="19044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81320" y="2914560"/>
              <a:ext cx="1666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16360" y="291132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719600" y="2909880"/>
              <a:ext cx="18072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19600" y="290520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5800" y="311940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62200" y="310356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63760" y="2716200"/>
              <a:ext cx="145116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89120" y="2948040"/>
              <a:ext cx="165240" cy="174600"/>
              <a:chOff x="5289120" y="2948040"/>
              <a:chExt cx="165240" cy="17460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0520" y="303372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6200000">
                <a:off x="5365440" y="300168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5400000">
                <a:off x="5288760" y="300168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22600" y="294804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373360" y="298944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373280" y="2932200"/>
              <a:ext cx="165240" cy="174600"/>
              <a:chOff x="4373280" y="2932200"/>
              <a:chExt cx="165240" cy="17460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4407840" y="301788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4372920" y="29858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200000">
                <a:off x="4449600" y="29858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4397040" y="293220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454280" y="297360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010840" y="2657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0880" y="2679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34360" y="3430440"/>
            <a:ext cx="1780560" cy="1027080"/>
            <a:chOff x="3834360" y="3430440"/>
            <a:chExt cx="1780560" cy="1027080"/>
          </a:xfrm>
        </p:grpSpPr>
        <p:sp>
          <p:nvSpPr>
            <p:cNvPr id="183" name=""/>
            <p:cNvSpPr/>
            <p:nvPr/>
          </p:nvSpPr>
          <p:spPr>
            <a:xfrm>
              <a:off x="4725720" y="3576240"/>
              <a:ext cx="2113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932360" y="355716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4360" y="343044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71960" y="3881160"/>
              <a:ext cx="19044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81320" y="3885840"/>
              <a:ext cx="1666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6360" y="388260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719600" y="3881160"/>
              <a:ext cx="18072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19600" y="387648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65800" y="409068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62200" y="407484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63760" y="3687480"/>
              <a:ext cx="145116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5289120" y="3919320"/>
              <a:ext cx="165240" cy="174600"/>
              <a:chOff x="5289120" y="3919320"/>
              <a:chExt cx="165240" cy="174600"/>
            </a:xfrm>
          </p:grpSpPr>
          <p:sp>
            <p:nvSpPr>
              <p:cNvPr id="195" name=""/>
              <p:cNvSpPr/>
              <p:nvPr/>
            </p:nvSpPr>
            <p:spPr>
              <a:xfrm>
                <a:off x="5330520" y="40050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200000">
                <a:off x="5365440" y="39729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5288760" y="39729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22600" y="391932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5373360" y="396072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373280" y="3903480"/>
              <a:ext cx="165240" cy="174600"/>
              <a:chOff x="4373280" y="3903480"/>
              <a:chExt cx="165240" cy="17460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4407840" y="39891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5400000">
                <a:off x="4372920" y="395712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200000">
                <a:off x="4449600" y="395712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4397040" y="390348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454280" y="394488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010840" y="3628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0880" y="3651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834360" y="4402080"/>
            <a:ext cx="1780560" cy="1027080"/>
            <a:chOff x="3834360" y="4402080"/>
            <a:chExt cx="1780560" cy="1027080"/>
          </a:xfrm>
        </p:grpSpPr>
        <p:sp>
          <p:nvSpPr>
            <p:cNvPr id="209" name=""/>
            <p:cNvSpPr/>
            <p:nvPr/>
          </p:nvSpPr>
          <p:spPr>
            <a:xfrm>
              <a:off x="4725720" y="4547880"/>
              <a:ext cx="2113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932360" y="452880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34360" y="440208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71960" y="4852800"/>
              <a:ext cx="19044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1320" y="4857480"/>
              <a:ext cx="1666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6360" y="485424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719600" y="4852800"/>
              <a:ext cx="18072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9600" y="484812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5800" y="506232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62200" y="504648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63760" y="4659120"/>
              <a:ext cx="145116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289120" y="4890960"/>
              <a:ext cx="165240" cy="174600"/>
              <a:chOff x="5289120" y="4890960"/>
              <a:chExt cx="165240" cy="174600"/>
            </a:xfrm>
          </p:grpSpPr>
          <p:sp>
            <p:nvSpPr>
              <p:cNvPr id="221" name=""/>
              <p:cNvSpPr/>
              <p:nvPr/>
            </p:nvSpPr>
            <p:spPr>
              <a:xfrm>
                <a:off x="5330520" y="49766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200000">
                <a:off x="5365440" y="49446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5400000">
                <a:off x="5288760" y="49446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22600" y="489096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373360" y="493236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373280" y="4875120"/>
              <a:ext cx="165240" cy="174600"/>
              <a:chOff x="4373280" y="4875120"/>
              <a:chExt cx="165240" cy="17460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4407840" y="49608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rot="5400000">
                <a:off x="4372920" y="49287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200000">
                <a:off x="4449600" y="492876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397040" y="487512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454280" y="491652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010840" y="4600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60880" y="4622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34360" y="5373720"/>
            <a:ext cx="1780560" cy="1027080"/>
            <a:chOff x="3834360" y="5373720"/>
            <a:chExt cx="1780560" cy="1027080"/>
          </a:xfrm>
        </p:grpSpPr>
        <p:sp>
          <p:nvSpPr>
            <p:cNvPr id="235" name=""/>
            <p:cNvSpPr/>
            <p:nvPr/>
          </p:nvSpPr>
          <p:spPr>
            <a:xfrm>
              <a:off x="4725720" y="5519520"/>
              <a:ext cx="2113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932360" y="5500440"/>
              <a:ext cx="7920" cy="277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360" y="5373720"/>
              <a:ext cx="92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Ventil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71960" y="5824440"/>
              <a:ext cx="19044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81320" y="5829120"/>
              <a:ext cx="16668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6360" y="5825880"/>
              <a:ext cx="190440" cy="520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719600" y="5824440"/>
              <a:ext cx="18072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19600" y="5819760"/>
              <a:ext cx="17136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65800" y="603396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62200" y="601812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63760" y="5630760"/>
              <a:ext cx="145116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289120" y="5862600"/>
              <a:ext cx="165240" cy="174600"/>
              <a:chOff x="5289120" y="5862600"/>
              <a:chExt cx="165240" cy="174600"/>
            </a:xfrm>
          </p:grpSpPr>
          <p:sp>
            <p:nvSpPr>
              <p:cNvPr id="247" name=""/>
              <p:cNvSpPr/>
              <p:nvPr/>
            </p:nvSpPr>
            <p:spPr>
              <a:xfrm>
                <a:off x="5330520" y="594828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5365440" y="59162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5400000">
                <a:off x="5288760" y="59162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22600" y="586260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373360" y="590400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373280" y="5846760"/>
              <a:ext cx="165240" cy="174600"/>
              <a:chOff x="4373280" y="5846760"/>
              <a:chExt cx="165240" cy="174600"/>
            </a:xfrm>
          </p:grpSpPr>
          <p:sp>
            <p:nvSpPr>
              <p:cNvPr id="253" name=""/>
              <p:cNvSpPr/>
              <p:nvPr/>
            </p:nvSpPr>
            <p:spPr>
              <a:xfrm flipH="1">
                <a:off x="4407840" y="593244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5400000">
                <a:off x="4372920" y="59004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6200000">
                <a:off x="4449600" y="5900400"/>
                <a:ext cx="88920" cy="8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4397040" y="5846760"/>
                <a:ext cx="108000" cy="4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454280" y="5888160"/>
                <a:ext cx="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010840" y="5572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60880" y="5594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67440" y="6276960"/>
            <a:ext cx="17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9080" y="595620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68880" y="531180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80240" y="49816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65640" y="433224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81680" y="40114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181480" y="3357360"/>
            <a:ext cx="633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8160" y="304632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68880" y="2396880"/>
            <a:ext cx="657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70320" y="1422000"/>
            <a:ext cx="657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223800" y="594504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90840" y="6269040"/>
            <a:ext cx="22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706560" y="529920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206520" y="496584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703320" y="432432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22360" y="399564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705120" y="3354480"/>
            <a:ext cx="9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214440" y="304020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11240" y="237960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20920" y="2050920"/>
            <a:ext cx="4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08000" y="14097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75200" y="2076480"/>
            <a:ext cx="4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92280" y="1085760"/>
            <a:ext cx="0" cy="517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62640" y="3249720"/>
            <a:ext cx="123840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120160" y="3532320"/>
            <a:ext cx="693720" cy="550800"/>
            <a:chOff x="8120160" y="3532320"/>
            <a:chExt cx="693720" cy="550800"/>
          </a:xfrm>
        </p:grpSpPr>
        <p:sp>
          <p:nvSpPr>
            <p:cNvPr id="285" name=""/>
            <p:cNvSpPr/>
            <p:nvPr/>
          </p:nvSpPr>
          <p:spPr>
            <a:xfrm>
              <a:off x="8120160" y="3676680"/>
              <a:ext cx="693720" cy="406440"/>
            </a:xfrm>
            <a:custGeom>
              <a:avLst/>
              <a:gdLst>
                <a:gd name="textAreaLeft" fmla="*/ 152280 w 693720"/>
                <a:gd name="textAreaRight" fmla="*/ 541440 w 693720"/>
                <a:gd name="textAreaTop" fmla="*/ 89280 h 406440"/>
                <a:gd name="textAreaBottom" fmla="*/ 317160 h 40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51920" y="35384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68000" y="35384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25000" y="3532320"/>
              <a:ext cx="29844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26800" y="3540240"/>
              <a:ext cx="2984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328240" y="3536640"/>
              <a:ext cx="3002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554560" y="118440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80280" y="12002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89760" y="255600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5160" y="278460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9400" y="429588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25,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6200" y="407052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18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5570640"/>
          <a:ext cx="241452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70640"/>
                    <a:ext cx="24145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81160" y="3852720"/>
          <a:ext cx="1569960" cy="126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" y="3852720"/>
                    <a:ext cx="156996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87280" y="2200320"/>
          <a:ext cx="1238400" cy="1266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280" y="2200320"/>
                    <a:ext cx="12384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737560" y="33051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67280" y="306396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flipH="1">
            <a:off x="3103560" y="747720"/>
            <a:ext cx="344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206960" y="187488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199040" y="340056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720800" y="2347920"/>
            <a:ext cx="558720" cy="596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360600" y="1452600"/>
            <a:ext cx="174600" cy="127080"/>
            <a:chOff x="3360600" y="1452600"/>
            <a:chExt cx="174600" cy="127080"/>
          </a:xfrm>
        </p:grpSpPr>
        <p:sp>
          <p:nvSpPr>
            <p:cNvPr id="310" name=""/>
            <p:cNvSpPr/>
            <p:nvPr/>
          </p:nvSpPr>
          <p:spPr>
            <a:xfrm>
              <a:off x="3408120" y="145260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60600" y="145260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05240" y="145908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3160" y="148284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33680" y="147492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>
            <a:off x="3133440" y="533412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708360" y="149184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1800" y="0"/>
            <a:ext cx="1648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ó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lef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03720" y="1876320"/>
            <a:ext cx="0" cy="30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6080" y="108252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40520" y="196524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ld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45120" y="1428840"/>
            <a:ext cx="190440" cy="520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148360" y="1427040"/>
            <a:ext cx="18072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48360" y="1422360"/>
            <a:ext cx="1713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92520" y="1233360"/>
            <a:ext cx="1451160" cy="77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39600" y="11746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89640" y="119700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01_E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5120" y="2936880"/>
            <a:ext cx="190440" cy="520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148360" y="2935440"/>
            <a:ext cx="18072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2930400"/>
            <a:ext cx="1713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92520" y="2741760"/>
            <a:ext cx="1451160" cy="76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39600" y="26827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9640" y="27050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01_E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45120" y="4446720"/>
            <a:ext cx="190440" cy="520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148360" y="4444920"/>
            <a:ext cx="18072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48360" y="4440240"/>
            <a:ext cx="1713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90960" y="463860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92520" y="4251240"/>
            <a:ext cx="1451160" cy="77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39600" y="4192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89640" y="421488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01_E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535800" y="1539720"/>
            <a:ext cx="139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45560" y="1428840"/>
            <a:ext cx="190440" cy="520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48440" y="1427040"/>
            <a:ext cx="18108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48440" y="1422360"/>
            <a:ext cx="17172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2960" y="1233360"/>
            <a:ext cx="1451160" cy="77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9680" y="11746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0080" y="119700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02_E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86880" y="2936880"/>
            <a:ext cx="190440" cy="520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889760" y="2935440"/>
            <a:ext cx="18108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89760" y="2930400"/>
            <a:ext cx="17172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34280" y="2741760"/>
            <a:ext cx="1450800" cy="76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81000" y="26827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31400" y="27050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02_E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02360" y="456408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34400" y="4446720"/>
            <a:ext cx="190440" cy="5205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937640" y="4444920"/>
            <a:ext cx="18072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37640" y="4440240"/>
            <a:ext cx="1713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80240" y="463860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81800" y="4251240"/>
            <a:ext cx="1451160" cy="77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591320" y="4467240"/>
            <a:ext cx="165240" cy="174600"/>
            <a:chOff x="7591320" y="4467240"/>
            <a:chExt cx="165240" cy="174600"/>
          </a:xfrm>
        </p:grpSpPr>
        <p:sp>
          <p:nvSpPr>
            <p:cNvPr id="360" name=""/>
            <p:cNvSpPr/>
            <p:nvPr/>
          </p:nvSpPr>
          <p:spPr>
            <a:xfrm flipH="1">
              <a:off x="7625880" y="45529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5400000">
              <a:off x="7590960" y="45208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7667640" y="45208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615080" y="4467240"/>
              <a:ext cx="1080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72320" y="45086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8228880" y="4192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78920" y="421488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02_E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3320" y="456264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31640" y="4890960"/>
            <a:ext cx="200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273560" y="3013200"/>
            <a:ext cx="85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706560" y="3008160"/>
            <a:ext cx="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080880" y="14968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47960" y="1145880"/>
            <a:ext cx="0" cy="396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6840" y="855720"/>
            <a:ext cx="47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45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4920" y="202104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932160" y="3375000"/>
            <a:ext cx="94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546600" y="488484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932520" y="1860120"/>
            <a:ext cx="0" cy="30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546960" y="456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6536880" y="746280"/>
            <a:ext cx="4680" cy="38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46960" y="487512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975360" y="2984400"/>
            <a:ext cx="90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541560" y="297972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937200" y="1865160"/>
            <a:ext cx="10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62760" y="716040"/>
            <a:ext cx="174600" cy="127080"/>
            <a:chOff x="6062760" y="716040"/>
            <a:chExt cx="174600" cy="127080"/>
          </a:xfrm>
        </p:grpSpPr>
        <p:sp>
          <p:nvSpPr>
            <p:cNvPr id="385" name=""/>
            <p:cNvSpPr/>
            <p:nvPr/>
          </p:nvSpPr>
          <p:spPr>
            <a:xfrm>
              <a:off x="6110280" y="71604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62760" y="71604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07400" y="72252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5320" y="74628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35840" y="73836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3098880" y="736560"/>
            <a:ext cx="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846160" y="1155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76440" y="4564080"/>
            <a:ext cx="88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802040" y="4467240"/>
            <a:ext cx="165240" cy="174600"/>
            <a:chOff x="4802040" y="4467240"/>
            <a:chExt cx="165240" cy="174600"/>
          </a:xfrm>
        </p:grpSpPr>
        <p:sp>
          <p:nvSpPr>
            <p:cNvPr id="394" name=""/>
            <p:cNvSpPr/>
            <p:nvPr/>
          </p:nvSpPr>
          <p:spPr>
            <a:xfrm flipH="1">
              <a:off x="4836600" y="45529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5400000">
              <a:off x="4801680" y="45208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4878360" y="45208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825800" y="4467240"/>
              <a:ext cx="1080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83040" y="45086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137040" y="4890960"/>
            <a:ext cx="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41480" y="510372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39200" y="1604880"/>
            <a:ext cx="47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475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8280" y="4096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Secundario AC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76200" y="1133640"/>
            <a:ext cx="14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.Secund.AC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19840" y="2544840"/>
            <a:ext cx="47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925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440080" y="2830680"/>
            <a:ext cx="174600" cy="126720"/>
            <a:chOff x="2440080" y="2830680"/>
            <a:chExt cx="174600" cy="126720"/>
          </a:xfrm>
        </p:grpSpPr>
        <p:sp>
          <p:nvSpPr>
            <p:cNvPr id="406" name=""/>
            <p:cNvSpPr/>
            <p:nvPr/>
          </p:nvSpPr>
          <p:spPr>
            <a:xfrm>
              <a:off x="2487600" y="2830680"/>
              <a:ext cx="12708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0080" y="2830680"/>
              <a:ext cx="103320" cy="5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84720" y="2836800"/>
              <a:ext cx="7272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92640" y="2860560"/>
              <a:ext cx="7308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13160" y="2852640"/>
              <a:ext cx="73080" cy="7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H="1">
            <a:off x="2120760" y="287028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120760" y="24699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247032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0" y="4834080"/>
          <a:ext cx="2633760" cy="202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34080"/>
                    <a:ext cx="26337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-5040" y="0"/>
            <a:ext cx="4504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odo aire caudal constante un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36320" y="171612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67320" y="1739880"/>
            <a:ext cx="106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383520" y="471600"/>
            <a:ext cx="1453680" cy="828720"/>
            <a:chOff x="6383520" y="471600"/>
            <a:chExt cx="1453680" cy="828720"/>
          </a:xfrm>
        </p:grpSpPr>
        <p:sp>
          <p:nvSpPr>
            <p:cNvPr id="420" name=""/>
            <p:cNvSpPr/>
            <p:nvPr/>
          </p:nvSpPr>
          <p:spPr>
            <a:xfrm>
              <a:off x="6386400" y="53064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3120" y="471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83520" y="4939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711960" y="887400"/>
            <a:ext cx="1180080" cy="865080"/>
            <a:chOff x="3711960" y="887400"/>
            <a:chExt cx="1180080" cy="865080"/>
          </a:xfrm>
        </p:grpSpPr>
        <p:sp>
          <p:nvSpPr>
            <p:cNvPr id="424" name=""/>
            <p:cNvSpPr/>
            <p:nvPr/>
          </p:nvSpPr>
          <p:spPr>
            <a:xfrm flipH="1">
              <a:off x="3931200" y="1155600"/>
              <a:ext cx="558360" cy="596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11960" y="8874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ald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56360" y="93024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18,5 k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730520" y="1224000"/>
            <a:ext cx="558720" cy="596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19560" y="511200"/>
            <a:ext cx="99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nfri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 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762200" y="1042920"/>
            <a:ext cx="442800" cy="123840"/>
            <a:chOff x="1762200" y="1042920"/>
            <a:chExt cx="442800" cy="123840"/>
          </a:xfrm>
        </p:grpSpPr>
        <p:sp>
          <p:nvSpPr>
            <p:cNvPr id="430" name=""/>
            <p:cNvSpPr/>
            <p:nvPr/>
          </p:nvSpPr>
          <p:spPr>
            <a:xfrm>
              <a:off x="1762200" y="1049040"/>
              <a:ext cx="12672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77920" y="10490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34920" y="1042920"/>
              <a:ext cx="29844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36720" y="1050840"/>
              <a:ext cx="2984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838160" y="1047240"/>
              <a:ext cx="3002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253240" y="76500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383520" y="1460520"/>
            <a:ext cx="1454040" cy="828720"/>
            <a:chOff x="6383520" y="1460520"/>
            <a:chExt cx="1454040" cy="828720"/>
          </a:xfrm>
        </p:grpSpPr>
        <p:sp>
          <p:nvSpPr>
            <p:cNvPr id="437" name=""/>
            <p:cNvSpPr/>
            <p:nvPr/>
          </p:nvSpPr>
          <p:spPr>
            <a:xfrm>
              <a:off x="6386760" y="1519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3480" y="146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83520" y="1482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383520" y="2449440"/>
            <a:ext cx="1454040" cy="828720"/>
            <a:chOff x="6383520" y="2449440"/>
            <a:chExt cx="1454040" cy="828720"/>
          </a:xfrm>
        </p:grpSpPr>
        <p:sp>
          <p:nvSpPr>
            <p:cNvPr id="441" name=""/>
            <p:cNvSpPr/>
            <p:nvPr/>
          </p:nvSpPr>
          <p:spPr>
            <a:xfrm>
              <a:off x="6386760" y="2508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33480" y="2449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83520" y="2471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383520" y="3440160"/>
            <a:ext cx="1454040" cy="828720"/>
            <a:chOff x="6383520" y="3440160"/>
            <a:chExt cx="1454040" cy="828720"/>
          </a:xfrm>
        </p:grpSpPr>
        <p:sp>
          <p:nvSpPr>
            <p:cNvPr id="445" name=""/>
            <p:cNvSpPr/>
            <p:nvPr/>
          </p:nvSpPr>
          <p:spPr>
            <a:xfrm>
              <a:off x="6386760" y="3498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3480" y="3440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83520" y="346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383520" y="4429080"/>
            <a:ext cx="1454040" cy="828720"/>
            <a:chOff x="6383520" y="4429080"/>
            <a:chExt cx="1454040" cy="828720"/>
          </a:xfrm>
        </p:grpSpPr>
        <p:sp>
          <p:nvSpPr>
            <p:cNvPr id="449" name=""/>
            <p:cNvSpPr/>
            <p:nvPr/>
          </p:nvSpPr>
          <p:spPr>
            <a:xfrm>
              <a:off x="6386760" y="44881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3480" y="4429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83520" y="4451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383520" y="5419800"/>
            <a:ext cx="1454040" cy="828720"/>
            <a:chOff x="6383520" y="5419800"/>
            <a:chExt cx="1454040" cy="828720"/>
          </a:xfrm>
        </p:grpSpPr>
        <p:sp>
          <p:nvSpPr>
            <p:cNvPr id="453" name=""/>
            <p:cNvSpPr/>
            <p:nvPr/>
          </p:nvSpPr>
          <p:spPr>
            <a:xfrm>
              <a:off x="6386760" y="54784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33480" y="541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83520" y="544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82040" y="3406680"/>
            <a:ext cx="2388240" cy="1503000"/>
            <a:chOff x="2282040" y="3406680"/>
            <a:chExt cx="2388240" cy="1503000"/>
          </a:xfrm>
        </p:grpSpPr>
        <p:sp>
          <p:nvSpPr>
            <p:cNvPr id="457" name=""/>
            <p:cNvSpPr/>
            <p:nvPr/>
          </p:nvSpPr>
          <p:spPr>
            <a:xfrm>
              <a:off x="3673440" y="3554280"/>
              <a:ext cx="241200" cy="6062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760" y="3560400"/>
              <a:ext cx="260280" cy="594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001760" y="3636720"/>
              <a:ext cx="625320" cy="493560"/>
              <a:chOff x="4001760" y="3636720"/>
              <a:chExt cx="625320" cy="493560"/>
            </a:xfrm>
          </p:grpSpPr>
          <p:sp>
            <p:nvSpPr>
              <p:cNvPr id="460" name=""/>
              <p:cNvSpPr/>
              <p:nvPr/>
            </p:nvSpPr>
            <p:spPr>
              <a:xfrm>
                <a:off x="4001760" y="3638880"/>
                <a:ext cx="443520" cy="49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26400" y="3636720"/>
                <a:ext cx="40068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10200" y="3650760"/>
                <a:ext cx="218880" cy="22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24520" y="3758400"/>
                <a:ext cx="208440" cy="23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203280" y="3558960"/>
              <a:ext cx="26064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86040" y="3552480"/>
              <a:ext cx="2127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657240" y="3579480"/>
              <a:ext cx="24156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77880" y="3558960"/>
              <a:ext cx="2192400" cy="60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93720" y="4159080"/>
              <a:ext cx="2176560" cy="60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422440" y="3406680"/>
              <a:ext cx="120600" cy="747360"/>
              <a:chOff x="2422440" y="3406680"/>
              <a:chExt cx="120600" cy="747360"/>
            </a:xfrm>
          </p:grpSpPr>
          <p:sp>
            <p:nvSpPr>
              <p:cNvPr id="470" name=""/>
              <p:cNvSpPr/>
              <p:nvPr/>
            </p:nvSpPr>
            <p:spPr>
              <a:xfrm>
                <a:off x="2422440" y="3572640"/>
                <a:ext cx="120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2438280" y="3598200"/>
                <a:ext cx="83880" cy="129600"/>
                <a:chOff x="2438280" y="3598200"/>
                <a:chExt cx="83880" cy="1296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439720" y="3622680"/>
                  <a:ext cx="8244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68520" y="364644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2438280" y="359820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518560" y="370800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438280" y="3730680"/>
                <a:ext cx="83880" cy="128160"/>
                <a:chOff x="2438280" y="3730680"/>
                <a:chExt cx="83880" cy="128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439720" y="375516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468520" y="377856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2438280" y="373068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2518560" y="383940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438280" y="3864240"/>
                <a:ext cx="83880" cy="128160"/>
                <a:chOff x="2438280" y="3864240"/>
                <a:chExt cx="83880" cy="1281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439720" y="388872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468520" y="391212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2438280" y="386424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2518560" y="397296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438280" y="3994920"/>
                <a:ext cx="83880" cy="130680"/>
                <a:chOff x="2438280" y="3994920"/>
                <a:chExt cx="83880" cy="1306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439720" y="4020120"/>
                  <a:ext cx="8244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468520" y="404388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2438280" y="3994920"/>
                  <a:ext cx="32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2518560" y="410580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 flipV="1">
                <a:off x="2481120" y="3539520"/>
                <a:ext cx="0" cy="5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57360" y="3406680"/>
                <a:ext cx="44640" cy="13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437920" y="4162320"/>
              <a:ext cx="120600" cy="747360"/>
              <a:chOff x="2437920" y="4162320"/>
              <a:chExt cx="120600" cy="747360"/>
            </a:xfrm>
          </p:grpSpPr>
          <p:sp>
            <p:nvSpPr>
              <p:cNvPr id="494" name=""/>
              <p:cNvSpPr/>
              <p:nvPr/>
            </p:nvSpPr>
            <p:spPr>
              <a:xfrm flipH="1" flipV="1">
                <a:off x="2437560" y="4161960"/>
                <a:ext cx="120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2458800" y="4588560"/>
                <a:ext cx="83880" cy="129600"/>
                <a:chOff x="2458800" y="4588560"/>
                <a:chExt cx="83880" cy="129600"/>
              </a:xfrm>
            </p:grpSpPr>
            <p:sp>
              <p:nvSpPr>
                <p:cNvPr id="496" name=""/>
                <p:cNvSpPr/>
                <p:nvPr/>
              </p:nvSpPr>
              <p:spPr>
                <a:xfrm flipH="1" flipV="1">
                  <a:off x="2458800" y="4606920"/>
                  <a:ext cx="8244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90840" y="463608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2539440" y="469872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2459520" y="458856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458800" y="4457520"/>
                <a:ext cx="83880" cy="128160"/>
                <a:chOff x="2458800" y="4457520"/>
                <a:chExt cx="83880" cy="128160"/>
              </a:xfrm>
            </p:grpSpPr>
            <p:sp>
              <p:nvSpPr>
                <p:cNvPr id="501" name=""/>
                <p:cNvSpPr/>
                <p:nvPr/>
              </p:nvSpPr>
              <p:spPr>
                <a:xfrm flipH="1" flipV="1">
                  <a:off x="2458800" y="447588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2490840" y="450468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2539440" y="456660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2459520" y="445752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2458800" y="4323960"/>
                <a:ext cx="83880" cy="128160"/>
                <a:chOff x="2458800" y="4323960"/>
                <a:chExt cx="83880" cy="128160"/>
              </a:xfrm>
            </p:grpSpPr>
            <p:sp>
              <p:nvSpPr>
                <p:cNvPr id="506" name=""/>
                <p:cNvSpPr/>
                <p:nvPr/>
              </p:nvSpPr>
              <p:spPr>
                <a:xfrm flipH="1" flipV="1">
                  <a:off x="2458800" y="434232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>
                  <a:off x="2490840" y="437112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539440" y="443304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2459520" y="432396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458800" y="4190760"/>
                <a:ext cx="83880" cy="130680"/>
                <a:chOff x="2458800" y="4190760"/>
                <a:chExt cx="83880" cy="130680"/>
              </a:xfrm>
            </p:grpSpPr>
            <p:sp>
              <p:nvSpPr>
                <p:cNvPr id="511" name=""/>
                <p:cNvSpPr/>
                <p:nvPr/>
              </p:nvSpPr>
              <p:spPr>
                <a:xfrm flipH="1" flipV="1">
                  <a:off x="2458800" y="4208760"/>
                  <a:ext cx="8244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flipV="1">
                  <a:off x="2490840" y="423864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2539440" y="4301640"/>
                  <a:ext cx="32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2459520" y="419076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2499840" y="4253760"/>
                <a:ext cx="0" cy="5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2478960" y="4770720"/>
                <a:ext cx="44640" cy="13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H="1" flipV="1" rot="5400000">
              <a:off x="2792160" y="3858120"/>
              <a:ext cx="1206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587320" y="4110120"/>
              <a:ext cx="129600" cy="83880"/>
              <a:chOff x="2587320" y="4110120"/>
              <a:chExt cx="129600" cy="83880"/>
            </a:xfrm>
          </p:grpSpPr>
          <p:sp>
            <p:nvSpPr>
              <p:cNvPr id="519" name=""/>
              <p:cNvSpPr/>
              <p:nvPr/>
            </p:nvSpPr>
            <p:spPr>
              <a:xfrm flipV="1">
                <a:off x="2611800" y="4110120"/>
                <a:ext cx="867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 rot="5400000">
                <a:off x="2641320" y="4136040"/>
                <a:ext cx="2124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2587320" y="4190760"/>
                <a:ext cx="19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2697120" y="4110840"/>
                <a:ext cx="198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720520" y="4110120"/>
              <a:ext cx="127440" cy="83880"/>
              <a:chOff x="2720520" y="4110120"/>
              <a:chExt cx="127440" cy="83880"/>
            </a:xfrm>
          </p:grpSpPr>
          <p:sp>
            <p:nvSpPr>
              <p:cNvPr id="524" name=""/>
              <p:cNvSpPr/>
              <p:nvPr/>
            </p:nvSpPr>
            <p:spPr>
              <a:xfrm flipV="1">
                <a:off x="2745000" y="4110120"/>
                <a:ext cx="846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5400000">
                <a:off x="2773440" y="413640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2720520" y="4190760"/>
                <a:ext cx="19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2828520" y="4110840"/>
                <a:ext cx="19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52640" y="4110120"/>
              <a:ext cx="128160" cy="83880"/>
              <a:chOff x="2852640" y="4110120"/>
              <a:chExt cx="128160" cy="8388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2876760" y="4110120"/>
                <a:ext cx="8568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 rot="5400000">
                <a:off x="2905560" y="413640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flipV="1">
                <a:off x="2852640" y="4190760"/>
                <a:ext cx="19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2961360" y="4110840"/>
                <a:ext cx="19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2982240" y="4110120"/>
              <a:ext cx="132120" cy="83880"/>
              <a:chOff x="2982240" y="4110120"/>
              <a:chExt cx="132120" cy="83880"/>
            </a:xfrm>
          </p:grpSpPr>
          <p:sp>
            <p:nvSpPr>
              <p:cNvPr id="534" name=""/>
              <p:cNvSpPr/>
              <p:nvPr/>
            </p:nvSpPr>
            <p:spPr>
              <a:xfrm flipV="1">
                <a:off x="3007440" y="4110120"/>
                <a:ext cx="8784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 rot="5400000">
                <a:off x="3037680" y="4135680"/>
                <a:ext cx="212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2982240" y="4190760"/>
                <a:ext cx="19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094200" y="4110840"/>
                <a:ext cx="201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2430360" y="4151160"/>
              <a:ext cx="6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2328480" y="4083120"/>
              <a:ext cx="4428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660920" y="3860640"/>
            <a:ext cx="77472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60840" y="673200"/>
            <a:ext cx="0" cy="49276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3040" y="660240"/>
            <a:ext cx="952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16002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86400" y="26035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99000" y="358128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86400" y="45720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5600880"/>
            <a:ext cx="9396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63504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35760" y="16383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61320" y="264168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873920" y="361944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35760" y="45975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61348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1880" y="622440"/>
            <a:ext cx="0" cy="5943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65480" y="6578640"/>
            <a:ext cx="3429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952880" y="4419360"/>
            <a:ext cx="0" cy="21841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673520" y="4457880"/>
            <a:ext cx="2793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733920" y="2546280"/>
            <a:ext cx="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78160" y="15368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886200" y="281916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73600" y="28195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838760" y="1523520"/>
            <a:ext cx="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3416400" y="255240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63760" y="2787480"/>
            <a:ext cx="0" cy="7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031480" y="278136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019240" y="142200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895480" y="2506680"/>
            <a:ext cx="174600" cy="127080"/>
            <a:chOff x="2895480" y="2506680"/>
            <a:chExt cx="174600" cy="127080"/>
          </a:xfrm>
        </p:grpSpPr>
        <p:sp>
          <p:nvSpPr>
            <p:cNvPr id="568" name=""/>
            <p:cNvSpPr/>
            <p:nvPr/>
          </p:nvSpPr>
          <p:spPr>
            <a:xfrm>
              <a:off x="2943000" y="25066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95480" y="25066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40120" y="25131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48040" y="25369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68560" y="25290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2031840" y="142236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52760" y="142236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65360" y="2552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20960" y="25527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165560" y="153828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847680" y="2519280"/>
            <a:ext cx="174600" cy="127080"/>
            <a:chOff x="3847680" y="2519280"/>
            <a:chExt cx="174600" cy="127080"/>
          </a:xfrm>
        </p:grpSpPr>
        <p:sp>
          <p:nvSpPr>
            <p:cNvPr id="579" name=""/>
            <p:cNvSpPr/>
            <p:nvPr/>
          </p:nvSpPr>
          <p:spPr>
            <a:xfrm flipH="1">
              <a:off x="3847320" y="25192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918600" y="25192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904920" y="25257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896280" y="25495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875760" y="25416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694240" y="22352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71600" y="38736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04440" y="353376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12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04840" y="34322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92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91000" y="226548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20840" y="44323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743880" y="825480"/>
            <a:ext cx="355320" cy="380880"/>
            <a:chOff x="6743880" y="825480"/>
            <a:chExt cx="355320" cy="380880"/>
          </a:xfrm>
        </p:grpSpPr>
        <p:sp>
          <p:nvSpPr>
            <p:cNvPr id="591" name=""/>
            <p:cNvSpPr/>
            <p:nvPr/>
          </p:nvSpPr>
          <p:spPr>
            <a:xfrm>
              <a:off x="6766920" y="848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43880" y="825480"/>
              <a:ext cx="3553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639800" y="299736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ree c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8520" y="3230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671560" y="3129120"/>
            <a:ext cx="6454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2360" y="347328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0" y="4927680"/>
          <a:ext cx="3165480" cy="193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27680"/>
                    <a:ext cx="316548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-3960" y="0"/>
            <a:ext cx="329256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odo aire caudal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36320" y="171612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67320" y="1739880"/>
            <a:ext cx="106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711960" y="887400"/>
            <a:ext cx="1180080" cy="865080"/>
            <a:chOff x="3711960" y="887400"/>
            <a:chExt cx="1180080" cy="865080"/>
          </a:xfrm>
        </p:grpSpPr>
        <p:sp>
          <p:nvSpPr>
            <p:cNvPr id="603" name=""/>
            <p:cNvSpPr/>
            <p:nvPr/>
          </p:nvSpPr>
          <p:spPr>
            <a:xfrm flipH="1">
              <a:off x="3931200" y="1155600"/>
              <a:ext cx="558360" cy="596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11960" y="8874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ald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6360" y="93024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18,5 k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730520" y="1224000"/>
            <a:ext cx="558720" cy="596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19560" y="511200"/>
            <a:ext cx="99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nfri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 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762200" y="1042920"/>
            <a:ext cx="442800" cy="123840"/>
            <a:chOff x="1762200" y="1042920"/>
            <a:chExt cx="442800" cy="123840"/>
          </a:xfrm>
        </p:grpSpPr>
        <p:sp>
          <p:nvSpPr>
            <p:cNvPr id="609" name=""/>
            <p:cNvSpPr/>
            <p:nvPr/>
          </p:nvSpPr>
          <p:spPr>
            <a:xfrm>
              <a:off x="1762200" y="1049040"/>
              <a:ext cx="12672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77920" y="10490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34920" y="1042920"/>
              <a:ext cx="29844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36720" y="1050840"/>
              <a:ext cx="2984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1838160" y="1047240"/>
              <a:ext cx="3002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253240" y="76500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282040" y="3406680"/>
            <a:ext cx="2388240" cy="1503000"/>
            <a:chOff x="2282040" y="3406680"/>
            <a:chExt cx="2388240" cy="1503000"/>
          </a:xfrm>
        </p:grpSpPr>
        <p:sp>
          <p:nvSpPr>
            <p:cNvPr id="616" name=""/>
            <p:cNvSpPr/>
            <p:nvPr/>
          </p:nvSpPr>
          <p:spPr>
            <a:xfrm>
              <a:off x="3673440" y="3554280"/>
              <a:ext cx="241200" cy="6062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09760" y="3560400"/>
              <a:ext cx="260280" cy="594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4001760" y="3636720"/>
              <a:ext cx="625320" cy="493560"/>
              <a:chOff x="4001760" y="3636720"/>
              <a:chExt cx="625320" cy="493560"/>
            </a:xfrm>
          </p:grpSpPr>
          <p:sp>
            <p:nvSpPr>
              <p:cNvPr id="619" name=""/>
              <p:cNvSpPr/>
              <p:nvPr/>
            </p:nvSpPr>
            <p:spPr>
              <a:xfrm>
                <a:off x="4001760" y="3638880"/>
                <a:ext cx="443520" cy="49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26400" y="3636720"/>
                <a:ext cx="40068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210200" y="3650760"/>
                <a:ext cx="218880" cy="22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124520" y="3758400"/>
                <a:ext cx="208440" cy="23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3203280" y="3558960"/>
              <a:ext cx="26064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86040" y="3552480"/>
              <a:ext cx="2127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3657240" y="3579480"/>
              <a:ext cx="24156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77880" y="3558960"/>
              <a:ext cx="2192400" cy="60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93720" y="4159080"/>
              <a:ext cx="2176560" cy="60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2422440" y="3406680"/>
              <a:ext cx="120600" cy="747360"/>
              <a:chOff x="2422440" y="3406680"/>
              <a:chExt cx="120600" cy="747360"/>
            </a:xfrm>
          </p:grpSpPr>
          <p:sp>
            <p:nvSpPr>
              <p:cNvPr id="629" name=""/>
              <p:cNvSpPr/>
              <p:nvPr/>
            </p:nvSpPr>
            <p:spPr>
              <a:xfrm>
                <a:off x="2422440" y="3572640"/>
                <a:ext cx="120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2438280" y="3598200"/>
                <a:ext cx="83880" cy="129600"/>
                <a:chOff x="2438280" y="3598200"/>
                <a:chExt cx="83880" cy="1296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439720" y="3622680"/>
                  <a:ext cx="8244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468520" y="364644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2438280" y="359820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2518560" y="370800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438280" y="3730680"/>
                <a:ext cx="83880" cy="128160"/>
                <a:chOff x="2438280" y="3730680"/>
                <a:chExt cx="83880" cy="128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39720" y="375516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68520" y="377856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2438280" y="373068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2518560" y="383940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438280" y="3864240"/>
                <a:ext cx="83880" cy="128160"/>
                <a:chOff x="2438280" y="3864240"/>
                <a:chExt cx="83880" cy="1281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2439720" y="388872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468520" y="391212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2438280" y="386424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2518560" y="397296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2438280" y="3994920"/>
                <a:ext cx="83880" cy="130680"/>
                <a:chOff x="2438280" y="3994920"/>
                <a:chExt cx="83880" cy="13068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2439720" y="4020120"/>
                  <a:ext cx="8244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468520" y="404388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2438280" y="3994920"/>
                  <a:ext cx="32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2518560" y="410580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flipV="1">
                <a:off x="2481120" y="3539520"/>
                <a:ext cx="0" cy="5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57360" y="3406680"/>
                <a:ext cx="44640" cy="13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437920" y="4162320"/>
              <a:ext cx="120600" cy="747360"/>
              <a:chOff x="2437920" y="4162320"/>
              <a:chExt cx="120600" cy="747360"/>
            </a:xfrm>
          </p:grpSpPr>
          <p:sp>
            <p:nvSpPr>
              <p:cNvPr id="653" name=""/>
              <p:cNvSpPr/>
              <p:nvPr/>
            </p:nvSpPr>
            <p:spPr>
              <a:xfrm flipH="1" flipV="1">
                <a:off x="2437560" y="4161960"/>
                <a:ext cx="120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2458800" y="4588560"/>
                <a:ext cx="83880" cy="129600"/>
                <a:chOff x="2458800" y="4588560"/>
                <a:chExt cx="83880" cy="129600"/>
              </a:xfrm>
            </p:grpSpPr>
            <p:sp>
              <p:nvSpPr>
                <p:cNvPr id="655" name=""/>
                <p:cNvSpPr/>
                <p:nvPr/>
              </p:nvSpPr>
              <p:spPr>
                <a:xfrm flipH="1" flipV="1">
                  <a:off x="2458800" y="4606920"/>
                  <a:ext cx="8244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>
                  <a:off x="2490840" y="463608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2539440" y="469872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2459520" y="458856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458800" y="4457520"/>
                <a:ext cx="83880" cy="128160"/>
                <a:chOff x="2458800" y="4457520"/>
                <a:chExt cx="83880" cy="128160"/>
              </a:xfrm>
            </p:grpSpPr>
            <p:sp>
              <p:nvSpPr>
                <p:cNvPr id="660" name=""/>
                <p:cNvSpPr/>
                <p:nvPr/>
              </p:nvSpPr>
              <p:spPr>
                <a:xfrm flipH="1" flipV="1">
                  <a:off x="2458800" y="447588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 flipV="1">
                  <a:off x="2490840" y="450468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2539440" y="456660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2459520" y="445752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2458800" y="4323960"/>
                <a:ext cx="83880" cy="128160"/>
                <a:chOff x="2458800" y="4323960"/>
                <a:chExt cx="83880" cy="128160"/>
              </a:xfrm>
            </p:grpSpPr>
            <p:sp>
              <p:nvSpPr>
                <p:cNvPr id="665" name=""/>
                <p:cNvSpPr/>
                <p:nvPr/>
              </p:nvSpPr>
              <p:spPr>
                <a:xfrm flipH="1" flipV="1">
                  <a:off x="2458800" y="434232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flipV="1">
                  <a:off x="2490840" y="437112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2539440" y="443304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2459520" y="432396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458800" y="4190760"/>
                <a:ext cx="83880" cy="130680"/>
                <a:chOff x="2458800" y="4190760"/>
                <a:chExt cx="83880" cy="130680"/>
              </a:xfrm>
            </p:grpSpPr>
            <p:sp>
              <p:nvSpPr>
                <p:cNvPr id="670" name=""/>
                <p:cNvSpPr/>
                <p:nvPr/>
              </p:nvSpPr>
              <p:spPr>
                <a:xfrm flipH="1" flipV="1">
                  <a:off x="2458800" y="4208760"/>
                  <a:ext cx="8244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flipV="1">
                  <a:off x="2490840" y="423864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>
                  <a:off x="2539440" y="4301640"/>
                  <a:ext cx="32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>
                  <a:off x="2459520" y="419076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2499840" y="4253760"/>
                <a:ext cx="0" cy="5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2478960" y="4770720"/>
                <a:ext cx="44640" cy="13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flipV="1" rot="5400000">
              <a:off x="2792160" y="3858120"/>
              <a:ext cx="1206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587320" y="4110120"/>
              <a:ext cx="129600" cy="83880"/>
              <a:chOff x="2587320" y="4110120"/>
              <a:chExt cx="129600" cy="83880"/>
            </a:xfrm>
          </p:grpSpPr>
          <p:sp>
            <p:nvSpPr>
              <p:cNvPr id="678" name=""/>
              <p:cNvSpPr/>
              <p:nvPr/>
            </p:nvSpPr>
            <p:spPr>
              <a:xfrm flipV="1">
                <a:off x="2611800" y="4110120"/>
                <a:ext cx="867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 rot="5400000">
                <a:off x="2641320" y="4136040"/>
                <a:ext cx="2124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2587320" y="4190760"/>
                <a:ext cx="19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2697120" y="4110840"/>
                <a:ext cx="198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720520" y="4110120"/>
              <a:ext cx="127440" cy="83880"/>
              <a:chOff x="2720520" y="4110120"/>
              <a:chExt cx="127440" cy="83880"/>
            </a:xfrm>
          </p:grpSpPr>
          <p:sp>
            <p:nvSpPr>
              <p:cNvPr id="683" name=""/>
              <p:cNvSpPr/>
              <p:nvPr/>
            </p:nvSpPr>
            <p:spPr>
              <a:xfrm flipV="1">
                <a:off x="2745000" y="4110120"/>
                <a:ext cx="846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 rot="5400000">
                <a:off x="2773440" y="413640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2720520" y="4190760"/>
                <a:ext cx="19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flipV="1">
                <a:off x="2828520" y="4110840"/>
                <a:ext cx="19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852640" y="4110120"/>
              <a:ext cx="128160" cy="83880"/>
              <a:chOff x="2852640" y="4110120"/>
              <a:chExt cx="128160" cy="8388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2876760" y="4110120"/>
                <a:ext cx="8568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 rot="5400000">
                <a:off x="2905560" y="413640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flipV="1">
                <a:off x="2852640" y="4190760"/>
                <a:ext cx="19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2961360" y="4110840"/>
                <a:ext cx="19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982240" y="4110120"/>
              <a:ext cx="132120" cy="83880"/>
              <a:chOff x="2982240" y="4110120"/>
              <a:chExt cx="132120" cy="8388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3007440" y="4110120"/>
                <a:ext cx="8784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 rot="5400000">
                <a:off x="3037680" y="4135680"/>
                <a:ext cx="212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2982240" y="4190760"/>
                <a:ext cx="19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3094200" y="4110840"/>
                <a:ext cx="201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 flipH="1">
              <a:off x="2430360" y="4151160"/>
              <a:ext cx="6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 rot="5400000">
              <a:off x="2328480" y="4083120"/>
              <a:ext cx="4428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660920" y="3860640"/>
            <a:ext cx="77472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60840" y="673200"/>
            <a:ext cx="0" cy="49276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23040" y="660240"/>
            <a:ext cx="952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86400" y="16002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86400" y="26035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99000" y="358128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86400" y="45720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35640" y="5600880"/>
            <a:ext cx="9396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848720" y="63504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35760" y="16383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61320" y="264168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873920" y="361944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835760" y="45975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48720" y="561348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381880" y="622440"/>
            <a:ext cx="0" cy="5943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5480" y="6578640"/>
            <a:ext cx="3429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952880" y="4419360"/>
            <a:ext cx="0" cy="21841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673520" y="4457880"/>
            <a:ext cx="2793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33920" y="2546280"/>
            <a:ext cx="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78160" y="15368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886200" y="281916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73600" y="28195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38760" y="1523520"/>
            <a:ext cx="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416400" y="255240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263760" y="2787480"/>
            <a:ext cx="0" cy="7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031480" y="278136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019240" y="142200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895480" y="2506680"/>
            <a:ext cx="174600" cy="127080"/>
            <a:chOff x="2895480" y="2506680"/>
            <a:chExt cx="174600" cy="127080"/>
          </a:xfrm>
        </p:grpSpPr>
        <p:sp>
          <p:nvSpPr>
            <p:cNvPr id="727" name=""/>
            <p:cNvSpPr/>
            <p:nvPr/>
          </p:nvSpPr>
          <p:spPr>
            <a:xfrm>
              <a:off x="2943000" y="25066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95480" y="25066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40120" y="25131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48040" y="25369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68560" y="25290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031840" y="142236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52760" y="142236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565360" y="2552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20960" y="25527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165560" y="153828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3847680" y="2519280"/>
            <a:ext cx="174600" cy="127080"/>
            <a:chOff x="3847680" y="2519280"/>
            <a:chExt cx="174600" cy="127080"/>
          </a:xfrm>
        </p:grpSpPr>
        <p:sp>
          <p:nvSpPr>
            <p:cNvPr id="738" name=""/>
            <p:cNvSpPr/>
            <p:nvPr/>
          </p:nvSpPr>
          <p:spPr>
            <a:xfrm flipH="1">
              <a:off x="3847320" y="25192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918600" y="25192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3904920" y="25257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896280" y="25495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3875760" y="25416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694240" y="22352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38736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04440" y="353376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12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04840" y="34322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92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91000" y="226548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20840" y="44323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589040" y="30481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ree c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08520" y="3230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1560" y="3129120"/>
            <a:ext cx="6454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22360" y="347328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681520" y="428400"/>
            <a:ext cx="266760" cy="438120"/>
            <a:chOff x="5681520" y="428400"/>
            <a:chExt cx="266760" cy="438120"/>
          </a:xfrm>
        </p:grpSpPr>
        <p:sp>
          <p:nvSpPr>
            <p:cNvPr id="754" name=""/>
            <p:cNvSpPr/>
            <p:nvPr/>
          </p:nvSpPr>
          <p:spPr>
            <a:xfrm>
              <a:off x="5695920" y="56196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5681520" y="42840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688000" y="1372680"/>
            <a:ext cx="266760" cy="438120"/>
            <a:chOff x="5688000" y="1372680"/>
            <a:chExt cx="266760" cy="438120"/>
          </a:xfrm>
        </p:grpSpPr>
        <p:sp>
          <p:nvSpPr>
            <p:cNvPr id="757" name=""/>
            <p:cNvSpPr/>
            <p:nvPr/>
          </p:nvSpPr>
          <p:spPr>
            <a:xfrm>
              <a:off x="5702400" y="15062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5688000" y="13726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683320" y="2382480"/>
            <a:ext cx="266760" cy="438120"/>
            <a:chOff x="5683320" y="2382480"/>
            <a:chExt cx="266760" cy="438120"/>
          </a:xfrm>
        </p:grpSpPr>
        <p:sp>
          <p:nvSpPr>
            <p:cNvPr id="760" name=""/>
            <p:cNvSpPr/>
            <p:nvPr/>
          </p:nvSpPr>
          <p:spPr>
            <a:xfrm>
              <a:off x="5697720" y="25160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5683320" y="23824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680080" y="3355560"/>
            <a:ext cx="266760" cy="438120"/>
            <a:chOff x="5680080" y="3355560"/>
            <a:chExt cx="266760" cy="438120"/>
          </a:xfrm>
        </p:grpSpPr>
        <p:sp>
          <p:nvSpPr>
            <p:cNvPr id="763" name=""/>
            <p:cNvSpPr/>
            <p:nvPr/>
          </p:nvSpPr>
          <p:spPr>
            <a:xfrm>
              <a:off x="5694480" y="348912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5680080" y="335556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689440" y="4341600"/>
            <a:ext cx="266760" cy="438120"/>
            <a:chOff x="5689440" y="4341600"/>
            <a:chExt cx="266760" cy="438120"/>
          </a:xfrm>
        </p:grpSpPr>
        <p:sp>
          <p:nvSpPr>
            <p:cNvPr id="766" name=""/>
            <p:cNvSpPr/>
            <p:nvPr/>
          </p:nvSpPr>
          <p:spPr>
            <a:xfrm>
              <a:off x="5703840" y="447516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689440" y="434160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5681520" y="5366880"/>
            <a:ext cx="266760" cy="438120"/>
            <a:chOff x="5681520" y="5366880"/>
            <a:chExt cx="266760" cy="438120"/>
          </a:xfrm>
        </p:grpSpPr>
        <p:sp>
          <p:nvSpPr>
            <p:cNvPr id="769" name=""/>
            <p:cNvSpPr/>
            <p:nvPr/>
          </p:nvSpPr>
          <p:spPr>
            <a:xfrm>
              <a:off x="5695920" y="55004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681520" y="53668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383520" y="471600"/>
            <a:ext cx="1453680" cy="828720"/>
            <a:chOff x="6383520" y="471600"/>
            <a:chExt cx="1453680" cy="828720"/>
          </a:xfrm>
        </p:grpSpPr>
        <p:sp>
          <p:nvSpPr>
            <p:cNvPr id="772" name=""/>
            <p:cNvSpPr/>
            <p:nvPr/>
          </p:nvSpPr>
          <p:spPr>
            <a:xfrm>
              <a:off x="6386400" y="53064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3120" y="471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83520" y="4939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383520" y="1460520"/>
            <a:ext cx="1454040" cy="828720"/>
            <a:chOff x="6383520" y="1460520"/>
            <a:chExt cx="1454040" cy="828720"/>
          </a:xfrm>
        </p:grpSpPr>
        <p:sp>
          <p:nvSpPr>
            <p:cNvPr id="776" name=""/>
            <p:cNvSpPr/>
            <p:nvPr/>
          </p:nvSpPr>
          <p:spPr>
            <a:xfrm>
              <a:off x="6386760" y="1519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33480" y="146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83520" y="1482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383520" y="2449440"/>
            <a:ext cx="1454040" cy="828720"/>
            <a:chOff x="6383520" y="2449440"/>
            <a:chExt cx="1454040" cy="828720"/>
          </a:xfrm>
        </p:grpSpPr>
        <p:sp>
          <p:nvSpPr>
            <p:cNvPr id="780" name=""/>
            <p:cNvSpPr/>
            <p:nvPr/>
          </p:nvSpPr>
          <p:spPr>
            <a:xfrm>
              <a:off x="6386760" y="2508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33480" y="2449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83520" y="2471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383520" y="3440160"/>
            <a:ext cx="1454040" cy="828720"/>
            <a:chOff x="6383520" y="3440160"/>
            <a:chExt cx="1454040" cy="828720"/>
          </a:xfrm>
        </p:grpSpPr>
        <p:sp>
          <p:nvSpPr>
            <p:cNvPr id="784" name=""/>
            <p:cNvSpPr/>
            <p:nvPr/>
          </p:nvSpPr>
          <p:spPr>
            <a:xfrm>
              <a:off x="6386760" y="3498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3480" y="3440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83520" y="346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383520" y="4429080"/>
            <a:ext cx="1454040" cy="828720"/>
            <a:chOff x="6383520" y="4429080"/>
            <a:chExt cx="1454040" cy="828720"/>
          </a:xfrm>
        </p:grpSpPr>
        <p:sp>
          <p:nvSpPr>
            <p:cNvPr id="788" name=""/>
            <p:cNvSpPr/>
            <p:nvPr/>
          </p:nvSpPr>
          <p:spPr>
            <a:xfrm>
              <a:off x="6386760" y="44881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33480" y="4429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83520" y="4451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6383520" y="5419800"/>
            <a:ext cx="1454040" cy="828720"/>
            <a:chOff x="6383520" y="5419800"/>
            <a:chExt cx="1454040" cy="828720"/>
          </a:xfrm>
        </p:grpSpPr>
        <p:sp>
          <p:nvSpPr>
            <p:cNvPr id="792" name=""/>
            <p:cNvSpPr/>
            <p:nvPr/>
          </p:nvSpPr>
          <p:spPr>
            <a:xfrm>
              <a:off x="6386760" y="54784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33480" y="541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83520" y="544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95" name=""/>
          <p:cNvGraphicFramePr/>
          <p:nvPr/>
        </p:nvGraphicFramePr>
        <p:xfrm>
          <a:off x="0" y="4941720"/>
          <a:ext cx="3139920" cy="19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41720"/>
                    <a:ext cx="31399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-9360" y="0"/>
            <a:ext cx="63802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odo aire caudal variable. Absorción llam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36320" y="171612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29360" y="1244520"/>
            <a:ext cx="106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rimario 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3711960" y="887400"/>
            <a:ext cx="1180080" cy="865080"/>
            <a:chOff x="3711960" y="887400"/>
            <a:chExt cx="1180080" cy="865080"/>
          </a:xfrm>
        </p:grpSpPr>
        <p:sp>
          <p:nvSpPr>
            <p:cNvPr id="801" name=""/>
            <p:cNvSpPr/>
            <p:nvPr/>
          </p:nvSpPr>
          <p:spPr>
            <a:xfrm flipH="1">
              <a:off x="3931200" y="1155600"/>
              <a:ext cx="558360" cy="5968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11960" y="8874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ald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56360" y="93024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18,5 k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730520" y="1224000"/>
            <a:ext cx="558720" cy="596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18840" y="663480"/>
            <a:ext cx="136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sorción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53240" y="91764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282040" y="3406680"/>
            <a:ext cx="2388240" cy="1503000"/>
            <a:chOff x="2282040" y="3406680"/>
            <a:chExt cx="2388240" cy="1503000"/>
          </a:xfrm>
        </p:grpSpPr>
        <p:sp>
          <p:nvSpPr>
            <p:cNvPr id="808" name=""/>
            <p:cNvSpPr/>
            <p:nvPr/>
          </p:nvSpPr>
          <p:spPr>
            <a:xfrm>
              <a:off x="3673440" y="3554280"/>
              <a:ext cx="241200" cy="6062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09760" y="3560400"/>
              <a:ext cx="260280" cy="594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001760" y="3636720"/>
              <a:ext cx="625320" cy="493560"/>
              <a:chOff x="4001760" y="3636720"/>
              <a:chExt cx="625320" cy="493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001760" y="3638880"/>
                <a:ext cx="443520" cy="49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226400" y="3636720"/>
                <a:ext cx="40068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210200" y="3650760"/>
                <a:ext cx="218880" cy="22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124520" y="3758400"/>
                <a:ext cx="208440" cy="23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3203280" y="3558960"/>
              <a:ext cx="26064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686040" y="3552480"/>
              <a:ext cx="2127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657240" y="3579480"/>
              <a:ext cx="24156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77880" y="3558960"/>
              <a:ext cx="2192400" cy="60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93720" y="4159080"/>
              <a:ext cx="2176560" cy="60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2422440" y="3406680"/>
              <a:ext cx="120600" cy="747360"/>
              <a:chOff x="2422440" y="3406680"/>
              <a:chExt cx="120600" cy="747360"/>
            </a:xfrm>
          </p:grpSpPr>
          <p:sp>
            <p:nvSpPr>
              <p:cNvPr id="821" name=""/>
              <p:cNvSpPr/>
              <p:nvPr/>
            </p:nvSpPr>
            <p:spPr>
              <a:xfrm>
                <a:off x="2422440" y="3572640"/>
                <a:ext cx="120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2438280" y="3598200"/>
                <a:ext cx="83880" cy="129600"/>
                <a:chOff x="2438280" y="3598200"/>
                <a:chExt cx="83880" cy="1296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2439720" y="3622680"/>
                  <a:ext cx="8244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468520" y="364644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2438280" y="359820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2518560" y="370800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438280" y="3730680"/>
                <a:ext cx="83880" cy="128160"/>
                <a:chOff x="2438280" y="3730680"/>
                <a:chExt cx="83880" cy="12816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2439720" y="375516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468520" y="377856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2438280" y="373068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2518560" y="383940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2438280" y="3864240"/>
                <a:ext cx="83880" cy="128160"/>
                <a:chOff x="2438280" y="3864240"/>
                <a:chExt cx="83880" cy="12816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2439720" y="388872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468520" y="391212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2438280" y="386424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V="1">
                  <a:off x="2518560" y="397296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2438280" y="3994920"/>
                <a:ext cx="83880" cy="130680"/>
                <a:chOff x="2438280" y="3994920"/>
                <a:chExt cx="83880" cy="1306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2439720" y="4020120"/>
                  <a:ext cx="8244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2468520" y="404388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2438280" y="3994920"/>
                  <a:ext cx="32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2518560" y="410580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 flipV="1">
                <a:off x="2481120" y="3539520"/>
                <a:ext cx="0" cy="5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57360" y="3406680"/>
                <a:ext cx="44640" cy="13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2437920" y="4162320"/>
              <a:ext cx="120600" cy="747360"/>
              <a:chOff x="2437920" y="4162320"/>
              <a:chExt cx="120600" cy="747360"/>
            </a:xfrm>
          </p:grpSpPr>
          <p:sp>
            <p:nvSpPr>
              <p:cNvPr id="845" name=""/>
              <p:cNvSpPr/>
              <p:nvPr/>
            </p:nvSpPr>
            <p:spPr>
              <a:xfrm flipH="1" flipV="1">
                <a:off x="2437560" y="4161960"/>
                <a:ext cx="120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2458800" y="4588560"/>
                <a:ext cx="83880" cy="129600"/>
                <a:chOff x="2458800" y="4588560"/>
                <a:chExt cx="83880" cy="129600"/>
              </a:xfrm>
            </p:grpSpPr>
            <p:sp>
              <p:nvSpPr>
                <p:cNvPr id="847" name=""/>
                <p:cNvSpPr/>
                <p:nvPr/>
              </p:nvSpPr>
              <p:spPr>
                <a:xfrm flipH="1" flipV="1">
                  <a:off x="2458800" y="4606920"/>
                  <a:ext cx="8244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flipV="1">
                  <a:off x="2490840" y="463608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2539440" y="469872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2459520" y="458856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2458800" y="4457520"/>
                <a:ext cx="83880" cy="128160"/>
                <a:chOff x="2458800" y="4457520"/>
                <a:chExt cx="83880" cy="128160"/>
              </a:xfrm>
            </p:grpSpPr>
            <p:sp>
              <p:nvSpPr>
                <p:cNvPr id="852" name=""/>
                <p:cNvSpPr/>
                <p:nvPr/>
              </p:nvSpPr>
              <p:spPr>
                <a:xfrm flipH="1" flipV="1">
                  <a:off x="2458800" y="447588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flipV="1">
                  <a:off x="2490840" y="450468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2539440" y="456660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2459520" y="445752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2458800" y="4323960"/>
                <a:ext cx="83880" cy="128160"/>
                <a:chOff x="2458800" y="4323960"/>
                <a:chExt cx="83880" cy="128160"/>
              </a:xfrm>
            </p:grpSpPr>
            <p:sp>
              <p:nvSpPr>
                <p:cNvPr id="857" name=""/>
                <p:cNvSpPr/>
                <p:nvPr/>
              </p:nvSpPr>
              <p:spPr>
                <a:xfrm flipH="1" flipV="1">
                  <a:off x="2458800" y="4342320"/>
                  <a:ext cx="8244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flipV="1">
                  <a:off x="2490840" y="4371120"/>
                  <a:ext cx="2124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2539440" y="4433040"/>
                  <a:ext cx="32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>
                  <a:off x="2459520" y="4323960"/>
                  <a:ext cx="288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2458800" y="4190760"/>
                <a:ext cx="83880" cy="130680"/>
                <a:chOff x="2458800" y="4190760"/>
                <a:chExt cx="83880" cy="130680"/>
              </a:xfrm>
            </p:grpSpPr>
            <p:sp>
              <p:nvSpPr>
                <p:cNvPr id="862" name=""/>
                <p:cNvSpPr/>
                <p:nvPr/>
              </p:nvSpPr>
              <p:spPr>
                <a:xfrm flipH="1" flipV="1">
                  <a:off x="2458800" y="4208760"/>
                  <a:ext cx="8244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2490840" y="4238640"/>
                  <a:ext cx="21240" cy="33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2539440" y="4301640"/>
                  <a:ext cx="324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2459520" y="4190760"/>
                  <a:ext cx="2880" cy="1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>
                <a:off x="2499840" y="4253760"/>
                <a:ext cx="0" cy="5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2478960" y="4770720"/>
                <a:ext cx="44640" cy="13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 flipH="1" flipV="1" rot="5400000">
              <a:off x="2792160" y="3858120"/>
              <a:ext cx="1206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2587320" y="4110120"/>
              <a:ext cx="129600" cy="83880"/>
              <a:chOff x="2587320" y="4110120"/>
              <a:chExt cx="129600" cy="83880"/>
            </a:xfrm>
          </p:grpSpPr>
          <p:sp>
            <p:nvSpPr>
              <p:cNvPr id="870" name=""/>
              <p:cNvSpPr/>
              <p:nvPr/>
            </p:nvSpPr>
            <p:spPr>
              <a:xfrm flipV="1">
                <a:off x="2611800" y="4110120"/>
                <a:ext cx="8676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flipV="1" rot="5400000">
                <a:off x="2641320" y="4136040"/>
                <a:ext cx="2124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2587320" y="4190760"/>
                <a:ext cx="19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 flipV="1">
                <a:off x="2697120" y="4110840"/>
                <a:ext cx="198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720520" y="4110120"/>
              <a:ext cx="127440" cy="83880"/>
              <a:chOff x="2720520" y="4110120"/>
              <a:chExt cx="127440" cy="83880"/>
            </a:xfrm>
          </p:grpSpPr>
          <p:sp>
            <p:nvSpPr>
              <p:cNvPr id="875" name=""/>
              <p:cNvSpPr/>
              <p:nvPr/>
            </p:nvSpPr>
            <p:spPr>
              <a:xfrm flipV="1">
                <a:off x="2745000" y="4110120"/>
                <a:ext cx="846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flipV="1" rot="5400000">
                <a:off x="2773440" y="413640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2720520" y="4190760"/>
                <a:ext cx="19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2828520" y="4110840"/>
                <a:ext cx="19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852640" y="4110120"/>
              <a:ext cx="128160" cy="83880"/>
              <a:chOff x="2852640" y="4110120"/>
              <a:chExt cx="128160" cy="83880"/>
            </a:xfrm>
          </p:grpSpPr>
          <p:sp>
            <p:nvSpPr>
              <p:cNvPr id="880" name=""/>
              <p:cNvSpPr/>
              <p:nvPr/>
            </p:nvSpPr>
            <p:spPr>
              <a:xfrm flipV="1">
                <a:off x="2876760" y="4110120"/>
                <a:ext cx="8568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flipV="1" rot="5400000">
                <a:off x="2905560" y="413640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2852640" y="4190760"/>
                <a:ext cx="194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2961360" y="4110840"/>
                <a:ext cx="19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2982240" y="4110120"/>
              <a:ext cx="132120" cy="83880"/>
              <a:chOff x="2982240" y="4110120"/>
              <a:chExt cx="132120" cy="83880"/>
            </a:xfrm>
          </p:grpSpPr>
          <p:sp>
            <p:nvSpPr>
              <p:cNvPr id="885" name=""/>
              <p:cNvSpPr/>
              <p:nvPr/>
            </p:nvSpPr>
            <p:spPr>
              <a:xfrm flipV="1">
                <a:off x="3007440" y="4110120"/>
                <a:ext cx="8784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flipV="1" rot="5400000">
                <a:off x="3037680" y="4135680"/>
                <a:ext cx="212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2982240" y="4190760"/>
                <a:ext cx="19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 flipV="1">
                <a:off x="3094200" y="4110840"/>
                <a:ext cx="201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2430360" y="4151160"/>
              <a:ext cx="6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 rot="5400000">
              <a:off x="2328480" y="4083120"/>
              <a:ext cx="4428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660920" y="3860640"/>
            <a:ext cx="77472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60840" y="673200"/>
            <a:ext cx="0" cy="49276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423040" y="660240"/>
            <a:ext cx="952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86400" y="16002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86400" y="26035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99000" y="358128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86400" y="45720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35640" y="5600880"/>
            <a:ext cx="9396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63504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835760" y="16383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861320" y="264168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73920" y="361944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835760" y="45975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848720" y="561348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381880" y="622440"/>
            <a:ext cx="0" cy="5943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965480" y="6578640"/>
            <a:ext cx="3429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952880" y="4419360"/>
            <a:ext cx="0" cy="21841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673520" y="4457880"/>
            <a:ext cx="2793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733920" y="2546280"/>
            <a:ext cx="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178160" y="153684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3886200" y="281916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73600" y="28195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838760" y="1523520"/>
            <a:ext cx="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416400" y="255240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263760" y="2787480"/>
            <a:ext cx="0" cy="7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031480" y="278136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2019240" y="142200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895480" y="2506680"/>
            <a:ext cx="174600" cy="127080"/>
            <a:chOff x="2895480" y="2506680"/>
            <a:chExt cx="174600" cy="127080"/>
          </a:xfrm>
        </p:grpSpPr>
        <p:sp>
          <p:nvSpPr>
            <p:cNvPr id="919" name=""/>
            <p:cNvSpPr/>
            <p:nvPr/>
          </p:nvSpPr>
          <p:spPr>
            <a:xfrm>
              <a:off x="2943000" y="25066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95480" y="25066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40120" y="25131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48040" y="25369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68560" y="25290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2031840" y="142236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52760" y="142236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65360" y="25527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20960" y="25527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165560" y="153828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847680" y="2519280"/>
            <a:ext cx="174600" cy="127080"/>
            <a:chOff x="3847680" y="2519280"/>
            <a:chExt cx="174600" cy="127080"/>
          </a:xfrm>
        </p:grpSpPr>
        <p:sp>
          <p:nvSpPr>
            <p:cNvPr id="930" name=""/>
            <p:cNvSpPr/>
            <p:nvPr/>
          </p:nvSpPr>
          <p:spPr>
            <a:xfrm flipH="1">
              <a:off x="3847320" y="25192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3918600" y="25192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3904920" y="25257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3896280" y="25495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875760" y="25416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694240" y="22352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71600" y="38736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04440" y="353376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12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704840" y="34322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92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91000" y="226548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320840" y="44323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589040" y="30481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ree c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08520" y="3230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671560" y="3129120"/>
            <a:ext cx="6454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22360" y="347328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681520" y="428400"/>
            <a:ext cx="266760" cy="438120"/>
            <a:chOff x="5681520" y="428400"/>
            <a:chExt cx="266760" cy="438120"/>
          </a:xfrm>
        </p:grpSpPr>
        <p:sp>
          <p:nvSpPr>
            <p:cNvPr id="946" name=""/>
            <p:cNvSpPr/>
            <p:nvPr/>
          </p:nvSpPr>
          <p:spPr>
            <a:xfrm>
              <a:off x="5695920" y="56196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681520" y="42840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88000" y="1372680"/>
            <a:ext cx="266760" cy="438120"/>
            <a:chOff x="5688000" y="1372680"/>
            <a:chExt cx="266760" cy="438120"/>
          </a:xfrm>
        </p:grpSpPr>
        <p:sp>
          <p:nvSpPr>
            <p:cNvPr id="949" name=""/>
            <p:cNvSpPr/>
            <p:nvPr/>
          </p:nvSpPr>
          <p:spPr>
            <a:xfrm>
              <a:off x="5702400" y="15062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688000" y="13726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683320" y="2382480"/>
            <a:ext cx="266760" cy="438120"/>
            <a:chOff x="5683320" y="2382480"/>
            <a:chExt cx="266760" cy="438120"/>
          </a:xfrm>
        </p:grpSpPr>
        <p:sp>
          <p:nvSpPr>
            <p:cNvPr id="952" name=""/>
            <p:cNvSpPr/>
            <p:nvPr/>
          </p:nvSpPr>
          <p:spPr>
            <a:xfrm>
              <a:off x="5697720" y="25160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683320" y="23824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680080" y="3355560"/>
            <a:ext cx="266760" cy="438120"/>
            <a:chOff x="5680080" y="3355560"/>
            <a:chExt cx="266760" cy="438120"/>
          </a:xfrm>
        </p:grpSpPr>
        <p:sp>
          <p:nvSpPr>
            <p:cNvPr id="955" name=""/>
            <p:cNvSpPr/>
            <p:nvPr/>
          </p:nvSpPr>
          <p:spPr>
            <a:xfrm>
              <a:off x="5694480" y="348912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5680080" y="335556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5689440" y="4341600"/>
            <a:ext cx="266760" cy="438120"/>
            <a:chOff x="5689440" y="4341600"/>
            <a:chExt cx="266760" cy="438120"/>
          </a:xfrm>
        </p:grpSpPr>
        <p:sp>
          <p:nvSpPr>
            <p:cNvPr id="958" name=""/>
            <p:cNvSpPr/>
            <p:nvPr/>
          </p:nvSpPr>
          <p:spPr>
            <a:xfrm>
              <a:off x="5703840" y="447516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689440" y="434160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5681520" y="5366880"/>
            <a:ext cx="266760" cy="438120"/>
            <a:chOff x="5681520" y="5366880"/>
            <a:chExt cx="266760" cy="438120"/>
          </a:xfrm>
        </p:grpSpPr>
        <p:sp>
          <p:nvSpPr>
            <p:cNvPr id="961" name=""/>
            <p:cNvSpPr/>
            <p:nvPr/>
          </p:nvSpPr>
          <p:spPr>
            <a:xfrm>
              <a:off x="5695920" y="5500440"/>
              <a:ext cx="21924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81520" y="5366880"/>
              <a:ext cx="2667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6383520" y="471600"/>
            <a:ext cx="1453680" cy="828720"/>
            <a:chOff x="6383520" y="471600"/>
            <a:chExt cx="1453680" cy="828720"/>
          </a:xfrm>
        </p:grpSpPr>
        <p:sp>
          <p:nvSpPr>
            <p:cNvPr id="964" name=""/>
            <p:cNvSpPr/>
            <p:nvPr/>
          </p:nvSpPr>
          <p:spPr>
            <a:xfrm>
              <a:off x="6386400" y="53064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33120" y="471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83520" y="4939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6383520" y="1460520"/>
            <a:ext cx="1454040" cy="828720"/>
            <a:chOff x="6383520" y="1460520"/>
            <a:chExt cx="1454040" cy="828720"/>
          </a:xfrm>
        </p:grpSpPr>
        <p:sp>
          <p:nvSpPr>
            <p:cNvPr id="968" name=""/>
            <p:cNvSpPr/>
            <p:nvPr/>
          </p:nvSpPr>
          <p:spPr>
            <a:xfrm>
              <a:off x="6386760" y="1519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33480" y="146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83520" y="1482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6383520" y="2449440"/>
            <a:ext cx="1454040" cy="828720"/>
            <a:chOff x="6383520" y="2449440"/>
            <a:chExt cx="1454040" cy="828720"/>
          </a:xfrm>
        </p:grpSpPr>
        <p:sp>
          <p:nvSpPr>
            <p:cNvPr id="972" name=""/>
            <p:cNvSpPr/>
            <p:nvPr/>
          </p:nvSpPr>
          <p:spPr>
            <a:xfrm>
              <a:off x="6386760" y="2508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33480" y="2449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383520" y="2471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383520" y="3440160"/>
            <a:ext cx="1454040" cy="828720"/>
            <a:chOff x="6383520" y="3440160"/>
            <a:chExt cx="1454040" cy="828720"/>
          </a:xfrm>
        </p:grpSpPr>
        <p:sp>
          <p:nvSpPr>
            <p:cNvPr id="976" name=""/>
            <p:cNvSpPr/>
            <p:nvPr/>
          </p:nvSpPr>
          <p:spPr>
            <a:xfrm>
              <a:off x="6386760" y="3498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33480" y="3440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83520" y="346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383520" y="4429080"/>
            <a:ext cx="1454040" cy="828720"/>
            <a:chOff x="6383520" y="4429080"/>
            <a:chExt cx="1454040" cy="828720"/>
          </a:xfrm>
        </p:grpSpPr>
        <p:sp>
          <p:nvSpPr>
            <p:cNvPr id="980" name=""/>
            <p:cNvSpPr/>
            <p:nvPr/>
          </p:nvSpPr>
          <p:spPr>
            <a:xfrm>
              <a:off x="6386760" y="44881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33480" y="4429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83520" y="4451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383520" y="5419800"/>
            <a:ext cx="1454040" cy="828720"/>
            <a:chOff x="6383520" y="5419800"/>
            <a:chExt cx="1454040" cy="828720"/>
          </a:xfrm>
        </p:grpSpPr>
        <p:sp>
          <p:nvSpPr>
            <p:cNvPr id="984" name=""/>
            <p:cNvSpPr/>
            <p:nvPr/>
          </p:nvSpPr>
          <p:spPr>
            <a:xfrm>
              <a:off x="6386760" y="54784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33480" y="541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83520" y="544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7" name=""/>
          <p:cNvGraphicFramePr/>
          <p:nvPr/>
        </p:nvGraphicFramePr>
        <p:xfrm>
          <a:off x="0" y="4941720"/>
          <a:ext cx="3139920" cy="19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41720"/>
                    <a:ext cx="31399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9" name=""/>
          <p:cNvGrpSpPr/>
          <p:nvPr/>
        </p:nvGrpSpPr>
        <p:grpSpPr>
          <a:xfrm>
            <a:off x="1138320" y="2658960"/>
            <a:ext cx="174600" cy="127080"/>
            <a:chOff x="1138320" y="2658960"/>
            <a:chExt cx="174600" cy="127080"/>
          </a:xfrm>
        </p:grpSpPr>
        <p:sp>
          <p:nvSpPr>
            <p:cNvPr id="990" name=""/>
            <p:cNvSpPr/>
            <p:nvPr/>
          </p:nvSpPr>
          <p:spPr>
            <a:xfrm>
              <a:off x="1185840" y="265896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38320" y="265896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182960" y="266544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190880" y="268920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1210680" y="268128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22160" y="1568520"/>
            <a:ext cx="119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95440" y="1598760"/>
            <a:ext cx="1238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95120" y="1969920"/>
            <a:ext cx="693720" cy="550800"/>
            <a:chOff x="195120" y="1969920"/>
            <a:chExt cx="693720" cy="550800"/>
          </a:xfrm>
        </p:grpSpPr>
        <p:sp>
          <p:nvSpPr>
            <p:cNvPr id="999" name=""/>
            <p:cNvSpPr/>
            <p:nvPr/>
          </p:nvSpPr>
          <p:spPr>
            <a:xfrm>
              <a:off x="195120" y="2114280"/>
              <a:ext cx="693720" cy="406440"/>
            </a:xfrm>
            <a:custGeom>
              <a:avLst/>
              <a:gdLst>
                <a:gd name="textAreaLeft" fmla="*/ 152280 w 693720"/>
                <a:gd name="textAreaRight" fmla="*/ 541440 w 693720"/>
                <a:gd name="textAreaTop" fmla="*/ 89280 h 406440"/>
                <a:gd name="textAreaBottom" fmla="*/ 317160 h 40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6880" y="19760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2960" y="19760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9960" y="1969920"/>
              <a:ext cx="298440" cy="1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1760" y="1977840"/>
              <a:ext cx="2984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03200" y="1974240"/>
              <a:ext cx="3002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43200" y="273384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25,9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46160" y="28004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18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71360" y="174312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80" y="150192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647280" y="196848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rcuito prim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calor 2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730520" y="1224000"/>
            <a:ext cx="558720" cy="596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72600" y="73980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omba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762200" y="1042920"/>
            <a:ext cx="442800" cy="123840"/>
            <a:chOff x="1762200" y="1042920"/>
            <a:chExt cx="442800" cy="123840"/>
          </a:xfrm>
        </p:grpSpPr>
        <p:sp>
          <p:nvSpPr>
            <p:cNvPr id="1013" name=""/>
            <p:cNvSpPr/>
            <p:nvPr/>
          </p:nvSpPr>
          <p:spPr>
            <a:xfrm>
              <a:off x="1762200" y="1049040"/>
              <a:ext cx="12672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77920" y="1049040"/>
              <a:ext cx="1270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34920" y="1042920"/>
              <a:ext cx="29844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36720" y="1050840"/>
              <a:ext cx="2984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838160" y="1047240"/>
              <a:ext cx="3002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11200" y="936720"/>
            <a:ext cx="732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 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 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381480" y="3556080"/>
            <a:ext cx="260280" cy="593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002120" y="3637080"/>
            <a:ext cx="624960" cy="493200"/>
            <a:chOff x="4002120" y="3637080"/>
            <a:chExt cx="624960" cy="493200"/>
          </a:xfrm>
        </p:grpSpPr>
        <p:sp>
          <p:nvSpPr>
            <p:cNvPr id="1021" name=""/>
            <p:cNvSpPr/>
            <p:nvPr/>
          </p:nvSpPr>
          <p:spPr>
            <a:xfrm>
              <a:off x="4002120" y="3639240"/>
              <a:ext cx="443160" cy="49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26400" y="3637080"/>
              <a:ext cx="40068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10200" y="3651120"/>
              <a:ext cx="2188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24880" y="3758760"/>
              <a:ext cx="208080" cy="23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375000" y="3554280"/>
            <a:ext cx="26028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185920" y="3559320"/>
            <a:ext cx="2484360" cy="59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82680" y="4159080"/>
            <a:ext cx="2487600" cy="600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 flipV="1" rot="5400000">
            <a:off x="2976480" y="3871080"/>
            <a:ext cx="1206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771640" y="4123080"/>
            <a:ext cx="129600" cy="83880"/>
            <a:chOff x="2771640" y="4123080"/>
            <a:chExt cx="129600" cy="83880"/>
          </a:xfrm>
        </p:grpSpPr>
        <p:sp>
          <p:nvSpPr>
            <p:cNvPr id="1030" name=""/>
            <p:cNvSpPr/>
            <p:nvPr/>
          </p:nvSpPr>
          <p:spPr>
            <a:xfrm flipV="1">
              <a:off x="2796120" y="4123080"/>
              <a:ext cx="867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 rot="5400000">
              <a:off x="2825640" y="4149000"/>
              <a:ext cx="2124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2771640" y="4203720"/>
              <a:ext cx="19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2881440" y="4123800"/>
              <a:ext cx="198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904840" y="4123080"/>
            <a:ext cx="127440" cy="83880"/>
            <a:chOff x="2904840" y="4123080"/>
            <a:chExt cx="127440" cy="83880"/>
          </a:xfrm>
        </p:grpSpPr>
        <p:sp>
          <p:nvSpPr>
            <p:cNvPr id="1035" name=""/>
            <p:cNvSpPr/>
            <p:nvPr/>
          </p:nvSpPr>
          <p:spPr>
            <a:xfrm flipV="1">
              <a:off x="2929320" y="4123080"/>
              <a:ext cx="846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 rot="5400000">
              <a:off x="2957760" y="4149360"/>
              <a:ext cx="2124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2904840" y="4203720"/>
              <a:ext cx="190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flipV="1">
              <a:off x="3012840" y="412380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3036960" y="4123080"/>
            <a:ext cx="128160" cy="83880"/>
            <a:chOff x="3036960" y="4123080"/>
            <a:chExt cx="128160" cy="83880"/>
          </a:xfrm>
        </p:grpSpPr>
        <p:sp>
          <p:nvSpPr>
            <p:cNvPr id="1040" name=""/>
            <p:cNvSpPr/>
            <p:nvPr/>
          </p:nvSpPr>
          <p:spPr>
            <a:xfrm flipV="1">
              <a:off x="3061080" y="4123080"/>
              <a:ext cx="8568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 rot="5400000">
              <a:off x="3089880" y="4149360"/>
              <a:ext cx="2124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 flipV="1">
              <a:off x="3036960" y="4203720"/>
              <a:ext cx="19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3145680" y="4123800"/>
              <a:ext cx="19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3166560" y="4123080"/>
            <a:ext cx="132120" cy="83880"/>
            <a:chOff x="3166560" y="4123080"/>
            <a:chExt cx="132120" cy="83880"/>
          </a:xfrm>
        </p:grpSpPr>
        <p:sp>
          <p:nvSpPr>
            <p:cNvPr id="1045" name=""/>
            <p:cNvSpPr/>
            <p:nvPr/>
          </p:nvSpPr>
          <p:spPr>
            <a:xfrm flipV="1">
              <a:off x="3191760" y="4123080"/>
              <a:ext cx="878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 rot="5400000">
              <a:off x="3222000" y="4148640"/>
              <a:ext cx="2124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flipV="1">
              <a:off x="3166560" y="4203720"/>
              <a:ext cx="19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3278520" y="4123800"/>
              <a:ext cx="201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 flipH="1">
            <a:off x="2614680" y="416412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660920" y="3860640"/>
            <a:ext cx="77472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460840" y="673200"/>
            <a:ext cx="0" cy="49276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23040" y="660240"/>
            <a:ext cx="9522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86400" y="16002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86400" y="260352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99000" y="358128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86400" y="4572000"/>
            <a:ext cx="9018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35640" y="5600880"/>
            <a:ext cx="9396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848720" y="63504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835760" y="16383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861320" y="264168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73920" y="361944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835760" y="4597560"/>
            <a:ext cx="53352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848720" y="5613480"/>
            <a:ext cx="53316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381880" y="622440"/>
            <a:ext cx="0" cy="5943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965480" y="6578640"/>
            <a:ext cx="34290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952880" y="4419360"/>
            <a:ext cx="0" cy="21841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673520" y="4457880"/>
            <a:ext cx="27936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602160" y="256176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3449520" y="2787480"/>
            <a:ext cx="0" cy="7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031480" y="2781360"/>
            <a:ext cx="142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019240" y="142200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2895480" y="2506680"/>
            <a:ext cx="174600" cy="127080"/>
            <a:chOff x="2895480" y="2506680"/>
            <a:chExt cx="174600" cy="127080"/>
          </a:xfrm>
        </p:grpSpPr>
        <p:sp>
          <p:nvSpPr>
            <p:cNvPr id="1073" name=""/>
            <p:cNvSpPr/>
            <p:nvPr/>
          </p:nvSpPr>
          <p:spPr>
            <a:xfrm>
              <a:off x="2943000" y="2506680"/>
              <a:ext cx="127080" cy="12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95480" y="2506680"/>
              <a:ext cx="103320" cy="5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940120" y="2513160"/>
              <a:ext cx="727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948040" y="2536920"/>
              <a:ext cx="730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68560" y="2529000"/>
              <a:ext cx="730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2031840" y="142236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52760" y="142236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65360" y="255276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94240" y="2235240"/>
            <a:ext cx="52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l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371600" y="3860640"/>
            <a:ext cx="647640" cy="129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704840" y="34322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7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92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320840" y="4432320"/>
            <a:ext cx="71100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67240" y="306540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4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=18,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9000" y="34290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Venti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81480" y="3571920"/>
            <a:ext cx="247680" cy="57132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3387600" y="3568680"/>
            <a:ext cx="247680" cy="571680"/>
          </a:xfrm>
          <a:prstGeom prst="rtTriangl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14680" y="3571920"/>
            <a:ext cx="11448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728720" y="1224000"/>
            <a:ext cx="557280" cy="60012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 flipV="1">
            <a:off x="1735200" y="1230480"/>
            <a:ext cx="557280" cy="599760"/>
          </a:xfrm>
          <a:prstGeom prst="rtTriangl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5040" y="0"/>
            <a:ext cx="4504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odo aire caudal constante un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64040" y="3079800"/>
            <a:ext cx="79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per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nsible (50%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71240" y="3508200"/>
            <a:ext cx="60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812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124000" y="3521160"/>
            <a:ext cx="120600" cy="613800"/>
            <a:chOff x="2124000" y="3521160"/>
            <a:chExt cx="120600" cy="613800"/>
          </a:xfrm>
        </p:grpSpPr>
        <p:sp>
          <p:nvSpPr>
            <p:cNvPr id="1096" name=""/>
            <p:cNvSpPr/>
            <p:nvPr/>
          </p:nvSpPr>
          <p:spPr>
            <a:xfrm>
              <a:off x="2124000" y="3554280"/>
              <a:ext cx="12060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2139840" y="3579480"/>
              <a:ext cx="83880" cy="129240"/>
              <a:chOff x="2139840" y="3579480"/>
              <a:chExt cx="83880" cy="129240"/>
            </a:xfrm>
          </p:grpSpPr>
          <p:sp>
            <p:nvSpPr>
              <p:cNvPr id="1098" name=""/>
              <p:cNvSpPr/>
              <p:nvPr/>
            </p:nvSpPr>
            <p:spPr>
              <a:xfrm>
                <a:off x="2141280" y="3603960"/>
                <a:ext cx="824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170080" y="3627720"/>
                <a:ext cx="21240" cy="33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2139840" y="3579480"/>
                <a:ext cx="324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2220120" y="3688920"/>
                <a:ext cx="288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2139840" y="3712680"/>
              <a:ext cx="83880" cy="127080"/>
              <a:chOff x="2139840" y="3712680"/>
              <a:chExt cx="83880" cy="127080"/>
            </a:xfrm>
          </p:grpSpPr>
          <p:sp>
            <p:nvSpPr>
              <p:cNvPr id="1103" name=""/>
              <p:cNvSpPr/>
              <p:nvPr/>
            </p:nvSpPr>
            <p:spPr>
              <a:xfrm>
                <a:off x="2141280" y="3736800"/>
                <a:ext cx="82440" cy="8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170080" y="375984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139840" y="3712680"/>
                <a:ext cx="32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220120" y="382032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2139840" y="3845880"/>
              <a:ext cx="83880" cy="128160"/>
              <a:chOff x="2139840" y="3845880"/>
              <a:chExt cx="83880" cy="128160"/>
            </a:xfrm>
          </p:grpSpPr>
          <p:sp>
            <p:nvSpPr>
              <p:cNvPr id="1108" name=""/>
              <p:cNvSpPr/>
              <p:nvPr/>
            </p:nvSpPr>
            <p:spPr>
              <a:xfrm>
                <a:off x="2141280" y="3870360"/>
                <a:ext cx="8244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170080" y="389376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2139840" y="3845880"/>
                <a:ext cx="32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2220120" y="395460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2139840" y="3976200"/>
              <a:ext cx="83880" cy="131760"/>
              <a:chOff x="2139840" y="3976200"/>
              <a:chExt cx="83880" cy="131760"/>
            </a:xfrm>
          </p:grpSpPr>
          <p:sp>
            <p:nvSpPr>
              <p:cNvPr id="1113" name=""/>
              <p:cNvSpPr/>
              <p:nvPr/>
            </p:nvSpPr>
            <p:spPr>
              <a:xfrm>
                <a:off x="2141280" y="4001400"/>
                <a:ext cx="8244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70080" y="4025160"/>
                <a:ext cx="21240" cy="3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2139840" y="3976200"/>
                <a:ext cx="324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2220120" y="4087800"/>
                <a:ext cx="28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 flipV="1">
              <a:off x="2182680" y="3521160"/>
              <a:ext cx="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120400" y="4162320"/>
            <a:ext cx="120600" cy="614160"/>
            <a:chOff x="2120400" y="4162320"/>
            <a:chExt cx="120600" cy="614160"/>
          </a:xfrm>
        </p:grpSpPr>
        <p:sp>
          <p:nvSpPr>
            <p:cNvPr id="1119" name=""/>
            <p:cNvSpPr/>
            <p:nvPr/>
          </p:nvSpPr>
          <p:spPr>
            <a:xfrm flipH="1" flipV="1">
              <a:off x="2120040" y="4162320"/>
              <a:ext cx="1206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2141280" y="4588200"/>
              <a:ext cx="83880" cy="129240"/>
              <a:chOff x="2141280" y="4588200"/>
              <a:chExt cx="83880" cy="129240"/>
            </a:xfrm>
          </p:grpSpPr>
          <p:sp>
            <p:nvSpPr>
              <p:cNvPr id="1121" name=""/>
              <p:cNvSpPr/>
              <p:nvPr/>
            </p:nvSpPr>
            <p:spPr>
              <a:xfrm flipH="1" flipV="1">
                <a:off x="2141280" y="4606200"/>
                <a:ext cx="824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flipV="1">
                <a:off x="2173680" y="4636080"/>
                <a:ext cx="21240" cy="33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2222280" y="469800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2142360" y="4588200"/>
                <a:ext cx="288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2141280" y="4457160"/>
              <a:ext cx="83880" cy="127440"/>
              <a:chOff x="2141280" y="4457160"/>
              <a:chExt cx="83880" cy="127440"/>
            </a:xfrm>
          </p:grpSpPr>
          <p:sp>
            <p:nvSpPr>
              <p:cNvPr id="1126" name=""/>
              <p:cNvSpPr/>
              <p:nvPr/>
            </p:nvSpPr>
            <p:spPr>
              <a:xfrm flipH="1" flipV="1">
                <a:off x="2141280" y="4475520"/>
                <a:ext cx="82440" cy="8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2173680" y="4504680"/>
                <a:ext cx="212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2222280" y="4565520"/>
                <a:ext cx="28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2142360" y="445716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141280" y="4322520"/>
              <a:ext cx="83880" cy="128160"/>
              <a:chOff x="2141280" y="4322520"/>
              <a:chExt cx="83880" cy="128160"/>
            </a:xfrm>
          </p:grpSpPr>
          <p:sp>
            <p:nvSpPr>
              <p:cNvPr id="1131" name=""/>
              <p:cNvSpPr/>
              <p:nvPr/>
            </p:nvSpPr>
            <p:spPr>
              <a:xfrm flipH="1" flipV="1">
                <a:off x="2141280" y="4340880"/>
                <a:ext cx="8244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 flipV="1">
                <a:off x="2173680" y="4370040"/>
                <a:ext cx="2124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2222280" y="443124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2142360" y="4322520"/>
                <a:ext cx="28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2141280" y="4189320"/>
              <a:ext cx="83880" cy="132120"/>
              <a:chOff x="2141280" y="4189320"/>
              <a:chExt cx="83880" cy="132120"/>
            </a:xfrm>
          </p:grpSpPr>
          <p:sp>
            <p:nvSpPr>
              <p:cNvPr id="1136" name=""/>
              <p:cNvSpPr/>
              <p:nvPr/>
            </p:nvSpPr>
            <p:spPr>
              <a:xfrm flipH="1" flipV="1">
                <a:off x="2141280" y="4208400"/>
                <a:ext cx="8244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2173680" y="4238280"/>
                <a:ext cx="212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2222280" y="4301640"/>
                <a:ext cx="288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2142360" y="4189320"/>
                <a:ext cx="28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2182680" y="42526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2435400" y="3564000"/>
            <a:ext cx="247320" cy="119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438280" y="41464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3830760" y="4202280"/>
            <a:ext cx="624960" cy="493200"/>
            <a:chOff x="3830760" y="4202280"/>
            <a:chExt cx="624960" cy="493200"/>
          </a:xfrm>
        </p:grpSpPr>
        <p:sp>
          <p:nvSpPr>
            <p:cNvPr id="1144" name=""/>
            <p:cNvSpPr/>
            <p:nvPr/>
          </p:nvSpPr>
          <p:spPr>
            <a:xfrm rot="10800000">
              <a:off x="4012560" y="4202280"/>
              <a:ext cx="443160" cy="49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0800000">
              <a:off x="3830760" y="4479840"/>
              <a:ext cx="40068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0800000">
              <a:off x="4028760" y="4453560"/>
              <a:ext cx="2188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10800000">
              <a:off x="4124880" y="4340160"/>
              <a:ext cx="208080" cy="23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4692240" y="412416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r>
              <a:rPr b="0" lang="es-E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0,75 k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6383520" y="471600"/>
            <a:ext cx="1453680" cy="828720"/>
            <a:chOff x="6383520" y="471600"/>
            <a:chExt cx="1453680" cy="828720"/>
          </a:xfrm>
        </p:grpSpPr>
        <p:sp>
          <p:nvSpPr>
            <p:cNvPr id="1150" name=""/>
            <p:cNvSpPr/>
            <p:nvPr/>
          </p:nvSpPr>
          <p:spPr>
            <a:xfrm>
              <a:off x="6386400" y="53064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233120" y="471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83520" y="4939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383520" y="1460520"/>
            <a:ext cx="1454040" cy="828720"/>
            <a:chOff x="6383520" y="1460520"/>
            <a:chExt cx="1454040" cy="828720"/>
          </a:xfrm>
        </p:grpSpPr>
        <p:sp>
          <p:nvSpPr>
            <p:cNvPr id="1154" name=""/>
            <p:cNvSpPr/>
            <p:nvPr/>
          </p:nvSpPr>
          <p:spPr>
            <a:xfrm>
              <a:off x="6386760" y="151920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233480" y="14605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383520" y="148284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6383520" y="2449440"/>
            <a:ext cx="1454040" cy="828720"/>
            <a:chOff x="6383520" y="2449440"/>
            <a:chExt cx="1454040" cy="828720"/>
          </a:xfrm>
        </p:grpSpPr>
        <p:sp>
          <p:nvSpPr>
            <p:cNvPr id="1158" name=""/>
            <p:cNvSpPr/>
            <p:nvPr/>
          </p:nvSpPr>
          <p:spPr>
            <a:xfrm>
              <a:off x="6386760" y="250812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33480" y="244944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83520" y="24717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1_E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6383520" y="3440160"/>
            <a:ext cx="1454040" cy="828720"/>
            <a:chOff x="6383520" y="3440160"/>
            <a:chExt cx="1454040" cy="828720"/>
          </a:xfrm>
        </p:grpSpPr>
        <p:sp>
          <p:nvSpPr>
            <p:cNvPr id="1162" name=""/>
            <p:cNvSpPr/>
            <p:nvPr/>
          </p:nvSpPr>
          <p:spPr>
            <a:xfrm>
              <a:off x="6386760" y="349884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233480" y="3440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83520" y="346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6383520" y="4429080"/>
            <a:ext cx="1454040" cy="828720"/>
            <a:chOff x="6383520" y="4429080"/>
            <a:chExt cx="1454040" cy="828720"/>
          </a:xfrm>
        </p:grpSpPr>
        <p:sp>
          <p:nvSpPr>
            <p:cNvPr id="1166" name=""/>
            <p:cNvSpPr/>
            <p:nvPr/>
          </p:nvSpPr>
          <p:spPr>
            <a:xfrm>
              <a:off x="6386760" y="4488120"/>
              <a:ext cx="1450800" cy="76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33480" y="44290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83520" y="445140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383520" y="5419800"/>
            <a:ext cx="1454040" cy="828720"/>
            <a:chOff x="6383520" y="5419800"/>
            <a:chExt cx="1454040" cy="828720"/>
          </a:xfrm>
        </p:grpSpPr>
        <p:sp>
          <p:nvSpPr>
            <p:cNvPr id="1170" name=""/>
            <p:cNvSpPr/>
            <p:nvPr/>
          </p:nvSpPr>
          <p:spPr>
            <a:xfrm>
              <a:off x="6386760" y="5478480"/>
              <a:ext cx="1450800" cy="7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33480" y="54198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83520" y="544212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02_E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3" name=""/>
          <p:cNvGraphicFramePr/>
          <p:nvPr/>
        </p:nvGraphicFramePr>
        <p:xfrm>
          <a:off x="0" y="4941720"/>
          <a:ext cx="3139920" cy="19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41720"/>
                    <a:ext cx="31399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5" name=""/>
          <p:cNvGrpSpPr/>
          <p:nvPr/>
        </p:nvGrpSpPr>
        <p:grpSpPr>
          <a:xfrm>
            <a:off x="6743880" y="825480"/>
            <a:ext cx="355320" cy="380880"/>
            <a:chOff x="6743880" y="825480"/>
            <a:chExt cx="355320" cy="380880"/>
          </a:xfrm>
        </p:grpSpPr>
        <p:sp>
          <p:nvSpPr>
            <p:cNvPr id="1176" name=""/>
            <p:cNvSpPr/>
            <p:nvPr/>
          </p:nvSpPr>
          <p:spPr>
            <a:xfrm>
              <a:off x="6766920" y="848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43880" y="825480"/>
              <a:ext cx="3553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0:50:18Z</dcterms:created>
  <dc:creator>Guillermo</dc:creator>
  <dc:description/>
  <dc:language>en-US</dc:language>
  <cp:lastModifiedBy>José Manuel Pinazo Ojer</cp:lastModifiedBy>
  <cp:lastPrinted>2000-05-10T03:45:27Z</cp:lastPrinted>
  <dcterms:modified xsi:type="dcterms:W3CDTF">2008-07-08T14:03:11Z</dcterms:modified>
  <cp:revision>224</cp:revision>
  <dc:subject/>
  <dc:title>Sin título de diapositiva</dc:title>
</cp:coreProperties>
</file>